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1b3f7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DA520-25A3-4145-8EE0-329567E2A2C0}" type="slidenum">
              <a:rPr b="1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et’s step back now to talk about one of the foundations: OHH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B5E-81B7-4CE7-9198-D399A73BA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AF10-6C00-4DD9-9AFE-9DC2545D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9472-AF06-46C0-A19C-766103B5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78D0-ED14-4948-AB26-923C1A31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6484-B912-4CFA-9AE0-6AC0A3E3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CEC3-2FCF-4C29-9626-F3707C60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71FA-403B-4C8E-BBB7-91B6E1D0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63D7-7E33-47A3-84EF-951A32E6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D56B-8965-4584-8386-60A25E31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26DC-EC58-4501-824C-8ED50575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1BB4-C770-424D-83F1-40982586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0D73-28A6-43BF-9CEA-6DBEA5C1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AF98-7EF5-4FE1-ABFB-70C0A808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ADB5-6AB2-494E-BCDF-9E4EF664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5658-2477-4345-8DE9-EB03253C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473B-6DCD-4A0E-B8F2-DD8D42B3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2C65-67CE-44DB-8473-CA72B963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A77A-1AD9-4143-8115-23D096FB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02D2-0CEB-4892-8236-217DC8B8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10A8-5F7E-4497-A729-099DCE35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32F8-BCDA-4297-BC8F-A704791C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6A7F-B830-4C27-B755-9A638F1F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FC7-0305-47F8-B9FD-3270536C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1D75-4A7D-445B-B5DF-10AB55C1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CF76-43EC-4789-9621-757C7E4E0A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red%20bar%20with%20logo%20text%20bar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0FF3-205C-4C66-B806-45263A3C3B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red%20bottom%20bar2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6068880"/>
            <a:ext cx="9144000" cy="789120"/>
          </a:xfrm>
          <a:prstGeom prst="rect">
            <a:avLst/>
          </a:prstGeom>
          <a:ln w="0">
            <a:noFill/>
          </a:ln>
        </p:spPr>
      </p:pic>
      <p:pic>
        <p:nvPicPr>
          <p:cNvPr id="47" name="red%20bar%20with%20logo%20top%20bar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andhelds.org/" TargetMode="External"/><Relationship Id="rId3" Type="http://schemas.openxmlformats.org/officeDocument/2006/relationships/hyperlink" Target="http://www.handhelds.org/z/wiki" TargetMode="External"/><Relationship Id="rId4" Type="http://schemas.openxmlformats.org/officeDocument/2006/relationships/hyperlink" Target="mailto:Ipaq@handhelds.org" TargetMode="External"/><Relationship Id="rId5" Type="http://schemas.openxmlformats.org/officeDocument/2006/relationships/hyperlink" Target="mailto:Ipaq@handhelds.org" TargetMode="External"/><Relationship Id="rId6" Type="http://schemas.openxmlformats.org/officeDocument/2006/relationships/hyperlink" Target="mailto:linux@handhelds.org" TargetMode="External"/><Relationship Id="rId7" Type="http://schemas.openxmlformats.org/officeDocument/2006/relationships/hyperlink" Target="mailto:familiar@handhelds.org" TargetMode="External"/><Relationship Id="rId8" Type="http://schemas.openxmlformats.org/officeDocument/2006/relationships/hyperlink" Target="mailto:bootldr@handhelds.org" TargetMode="External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andhelds.org/" TargetMode="External"/><Relationship Id="rId3" Type="http://schemas.openxmlformats.org/officeDocument/2006/relationships/hyperlink" Target="http://www.handhelds.org/" TargetMode="External"/><Relationship Id="rId4" Type="http://schemas.openxmlformats.org/officeDocument/2006/relationships/hyperlink" Target="http://www.handhelds.org/" TargetMode="External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1904760"/>
            <a:ext cx="7543800" cy="190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1b3f7"/>
                </a:solidFill>
                <a:latin typeface="Arial"/>
              </a:rPr>
              <a:t>Compaq Mercury Project</a:t>
            </a:r>
            <a:br>
              <a:rPr sz="4000"/>
            </a:b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Exploring the Future of Handheld Computing</a:t>
            </a:r>
            <a:br>
              <a:rPr sz="4000"/>
            </a:b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36576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tober 18,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mey Hi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mey.hicks@compaq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Linux on the iPAQ: Familiar distribution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ython scrip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FFS2 r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Window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nome toolk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ull screen handwriting inpu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ti-aliased fo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ndscape or Portrait mo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ll networ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ributed as ipk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familiar-screenshot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3048120" cy="4064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6483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[Dbutter@wireless.net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7825-EAF0-4381-A93F-215300CF00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QPE: Qt Pocket Environment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Familiar as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out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ed as ipkg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polished l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DA-ori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qpe-applications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3655800" cy="487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4E85-8F8C-48F1-A3D1-499DE57632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Intimate Linux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141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d by close acquaintance, association, or familiarity. See Synonyms at famili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blown linux on the Compaq iPAQ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v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nts: bochs x86 emu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slashdot1" descr=""/>
          <p:cNvPicPr/>
          <p:nvPr/>
        </p:nvPicPr>
        <p:blipFill>
          <a:blip r:embed="rId2"/>
          <a:stretch/>
        </p:blipFill>
        <p:spPr>
          <a:xfrm>
            <a:off x="4567320" y="4572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22" name="bochs0-x86-linux" descr=""/>
          <p:cNvPicPr/>
          <p:nvPr/>
        </p:nvPicPr>
        <p:blipFill>
          <a:blip r:embed="rId3"/>
          <a:stretch/>
        </p:blipFill>
        <p:spPr>
          <a:xfrm>
            <a:off x="4567320" y="3657600"/>
            <a:ext cx="4043160" cy="303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B729-816F-4170-B0F0-32346F5AB6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PocketLinux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5810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 application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ed in Ja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time: kaffe JV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ux OS undern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ll support for “theming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follow the 1.0 installation instructions – they can be hazardous to ipaq’s – email jamey for revised instructions if you’re interested in th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ocketlinux-mgr" descr=""/>
          <p:cNvPicPr/>
          <p:nvPr/>
        </p:nvPicPr>
        <p:blipFill>
          <a:blip r:embed="rId2"/>
          <a:stretch/>
        </p:blipFill>
        <p:spPr>
          <a:xfrm>
            <a:off x="5029200" y="1752480"/>
            <a:ext cx="3962520" cy="247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0F78-8A6F-4A67-B791-BB14644522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Vision of Handheld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Handhelds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b11f"/>
                </a:solidFill>
                <a:latin typeface="Arial"/>
              </a:rPr>
              <a:t>Mercury Project (BackPAQ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44E7-CD95-4690-9CBF-9BECF53868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CRL’s Mercury Project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search project to extend the boundaries of pervasive wireless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rdware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handheld research plat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ftware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, middleware and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Linux Kernel and Open Source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v6 Mo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Exploring the future of handheld compu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9C4A-9C0C-41D7-A7B6-8E63B36EC2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Mercury Hardware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ing the envelope of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PAQ: prototyping plat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on pack with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GA CMOS cam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2MB Flash, FPG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al expansion connecto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PC Card slo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lerome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o codec and headset conn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LAN and WWAN via PC Car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backpaq-f-256x128" descr=""/>
          <p:cNvPicPr/>
          <p:nvPr/>
        </p:nvPicPr>
        <p:blipFill>
          <a:blip r:embed="rId2"/>
          <a:stretch/>
        </p:blipFill>
        <p:spPr>
          <a:xfrm>
            <a:off x="6858000" y="990720"/>
            <a:ext cx="1625760" cy="115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64F2-50F2-4CD0-B296-E5E400E1B6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iPAQ H3600/BackPAQ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pic>
        <p:nvPicPr>
          <p:cNvPr id="134" name="backpaq-01-512x384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6426360" cy="481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451E-AD46-4E25-BC2B-E952A40373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iPAQ H3600/BackPAQ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pic>
        <p:nvPicPr>
          <p:cNvPr id="136" name="backpaq-12-512x384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6426360" cy="481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B3CA-5A5F-458C-A068-41F9DA2C47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BackPAQ Accelerometer Demo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k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t and mo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use runs downhill and cat follows mo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 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nd iPAQ/BackPAQ up, on side, upside d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reen is rotated to mat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ndow manager receives ResizeAndRotate ev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s are resized appropriate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31C1-0D66-48CB-97F4-C577312DB4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Vision of Handheld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Handhelds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cury Project (BackPAQ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B16B-878B-4221-8C86-685390CDCB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BackPAQ Video Conferencing Demo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.323 audio and video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call Polycom or Netmee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.261 codec is quite slo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ww.openh323.or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C: videoconferencing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ny codecs suppor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cast and IPv6 also suppor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tp://ftp.ee.lbl.gov/conferencing/vi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77AD-27CB-436E-9DC0-FF3095DC4F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18360" bIns="18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1b3f7"/>
                </a:solidFill>
                <a:latin typeface="Arial"/>
              </a:rPr>
              <a:t>IPv6 Node Mobility Architecture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4760" y="1965600"/>
            <a:ext cx="1655640" cy="732600"/>
          </a:xfrm>
          <a:prstGeom prst="roundRect">
            <a:avLst>
              <a:gd name="adj" fmla="val 176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Pv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32440" y="2808360"/>
            <a:ext cx="0" cy="988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804960" y="3776760"/>
            <a:ext cx="3316320" cy="213480"/>
            <a:chOff x="804960" y="3776760"/>
            <a:chExt cx="3316320" cy="213480"/>
          </a:xfrm>
        </p:grpSpPr>
        <p:sp>
          <p:nvSpPr>
            <p:cNvPr id="145" name=""/>
            <p:cNvSpPr/>
            <p:nvPr/>
          </p:nvSpPr>
          <p:spPr>
            <a:xfrm>
              <a:off x="804960" y="3797280"/>
              <a:ext cx="331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4960" y="3776760"/>
              <a:ext cx="3316320" cy="213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Home WLAN or Ethern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319720" y="2808360"/>
            <a:ext cx="0" cy="9889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332320" y="3776760"/>
            <a:ext cx="3587760" cy="213480"/>
            <a:chOff x="5332320" y="3776760"/>
            <a:chExt cx="3587760" cy="213480"/>
          </a:xfrm>
        </p:grpSpPr>
        <p:sp>
          <p:nvSpPr>
            <p:cNvPr id="149" name=""/>
            <p:cNvSpPr/>
            <p:nvPr/>
          </p:nvSpPr>
          <p:spPr>
            <a:xfrm>
              <a:off x="5332320" y="3797280"/>
              <a:ext cx="358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32320" y="3776760"/>
              <a:ext cx="3587760" cy="213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Foreign WLAN or GPRS 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4132440" y="2808360"/>
            <a:ext cx="0" cy="988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32440" y="2808360"/>
            <a:ext cx="0" cy="990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32440" y="2808360"/>
            <a:ext cx="0" cy="990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32440" y="2808360"/>
            <a:ext cx="0" cy="990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08520" y="3811680"/>
            <a:ext cx="1440" cy="38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29240" y="3811680"/>
            <a:ext cx="144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262320" y="4186080"/>
            <a:ext cx="1279440" cy="184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923000" y="4167360"/>
            <a:ext cx="1277640" cy="188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402000" y="4305240"/>
            <a:ext cx="2682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.P.                                   A.P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22360" y="2446560"/>
            <a:ext cx="1792440" cy="670680"/>
          </a:xfrm>
          <a:prstGeom prst="roundRect">
            <a:avLst>
              <a:gd name="adj" fmla="val 16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IPv6  </a:t>
            </a:r>
            <a:r>
              <a:rPr b="0" lang="en-GB" sz="1400" spc="-1" strike="noStrike">
                <a:solidFill>
                  <a:srgbClr val="e6ff00"/>
                </a:solidFill>
                <a:latin typeface="Arial"/>
              </a:rPr>
              <a:t>(H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ome Ag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81520" y="6456240"/>
            <a:ext cx="693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32440" y="2809800"/>
            <a:ext cx="0" cy="988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2819520"/>
            <a:ext cx="17640" cy="9792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08520" y="6642000"/>
            <a:ext cx="692280" cy="180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99360" y="6172200"/>
            <a:ext cx="2744640" cy="5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munication path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ired conn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802.11b wireless conn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759040" y="4366800"/>
            <a:ext cx="754200" cy="65556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30640" y="5149080"/>
            <a:ext cx="2757600" cy="1006560"/>
          </a:xfrm>
          <a:prstGeom prst="roundRect">
            <a:avLst>
              <a:gd name="adj" fmla="val 213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IPv6      </a:t>
            </a:r>
            <a:r>
              <a:rPr b="0" lang="en-GB" sz="2200" spc="-1" strike="noStrike">
                <a:solidFill>
                  <a:srgbClr val="e6ff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e6ff00"/>
                </a:solidFill>
                <a:latin typeface="Arial"/>
              </a:rPr>
              <a:t>(C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rrespondent Nod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eceiving vide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4218120" y="4403520"/>
            <a:ext cx="1249200" cy="84132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5410080"/>
            <a:ext cx="982800" cy="181080"/>
          </a:xfrm>
          <a:prstGeom prst="line">
            <a:avLst/>
          </a:prstGeom>
          <a:ln cap="rnd" w="28440">
            <a:solidFill>
              <a:srgbClr val="63a783"/>
            </a:solidFill>
            <a:custDash>
              <a:ds d="100000" sp="1000"/>
            </a:custDash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706720" y="6272280"/>
            <a:ext cx="679320" cy="0"/>
          </a:xfrm>
          <a:prstGeom prst="line">
            <a:avLst/>
          </a:prstGeom>
          <a:ln cap="rnd" w="28440">
            <a:solidFill>
              <a:srgbClr val="e6ff00"/>
            </a:solidFill>
            <a:custDash>
              <a:ds d="100000" sp="1000"/>
            </a:custDash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2041560"/>
            <a:ext cx="2830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3a783"/>
                </a:solidFill>
                <a:latin typeface="Arial"/>
              </a:rPr>
              <a:t>Direct routing from CN to MN on home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3276720"/>
            <a:ext cx="0" cy="5331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4881960"/>
            <a:ext cx="2589120" cy="9486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obile Nod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nding Vide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backpaq-03-512x384" descr=""/>
          <p:cNvPicPr/>
          <p:nvPr/>
        </p:nvPicPr>
        <p:blipFill>
          <a:blip r:embed="rId4"/>
          <a:stretch/>
        </p:blipFill>
        <p:spPr>
          <a:xfrm>
            <a:off x="6934320" y="4419720"/>
            <a:ext cx="1531800" cy="1149120"/>
          </a:xfrm>
          <a:prstGeom prst="rect">
            <a:avLst/>
          </a:prstGeom>
          <a:ln w="0">
            <a:noFill/>
          </a:ln>
        </p:spPr>
      </p:pic>
      <p:pic>
        <p:nvPicPr>
          <p:cNvPr id="175" name="backpaq-03-512x384" descr=""/>
          <p:cNvPicPr/>
          <p:nvPr/>
        </p:nvPicPr>
        <p:blipFill>
          <a:blip r:embed="rId5"/>
          <a:stretch/>
        </p:blipFill>
        <p:spPr>
          <a:xfrm>
            <a:off x="533520" y="5708520"/>
            <a:ext cx="1531800" cy="114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A7B9-39CA-4781-B78A-7A607FD029DF}" type="slidenum">
              <a:t>21</a:t>
            </a:fld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18360" bIns="18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1b3f7"/>
                </a:solidFill>
                <a:latin typeface="Arial"/>
              </a:rPr>
              <a:t>MIPv6 After Node Migration: Forwarding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84760" y="1976760"/>
            <a:ext cx="1655640" cy="732600"/>
          </a:xfrm>
          <a:prstGeom prst="roundRect">
            <a:avLst>
              <a:gd name="adj" fmla="val 176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Pv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32440" y="2808360"/>
            <a:ext cx="0" cy="98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804960" y="3776760"/>
            <a:ext cx="3316320" cy="213480"/>
            <a:chOff x="804960" y="3776760"/>
            <a:chExt cx="3316320" cy="213480"/>
          </a:xfrm>
        </p:grpSpPr>
        <p:sp>
          <p:nvSpPr>
            <p:cNvPr id="180" name=""/>
            <p:cNvSpPr/>
            <p:nvPr/>
          </p:nvSpPr>
          <p:spPr>
            <a:xfrm>
              <a:off x="804960" y="3797280"/>
              <a:ext cx="3314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4960" y="3776760"/>
              <a:ext cx="3316320" cy="213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Home WLAN or Ethern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5319720" y="2808360"/>
            <a:ext cx="0" cy="988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332320" y="3776760"/>
            <a:ext cx="3587760" cy="213480"/>
            <a:chOff x="5332320" y="3776760"/>
            <a:chExt cx="3587760" cy="213480"/>
          </a:xfrm>
        </p:grpSpPr>
        <p:sp>
          <p:nvSpPr>
            <p:cNvPr id="184" name=""/>
            <p:cNvSpPr/>
            <p:nvPr/>
          </p:nvSpPr>
          <p:spPr>
            <a:xfrm>
              <a:off x="5332320" y="3797280"/>
              <a:ext cx="358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2320" y="3776760"/>
              <a:ext cx="3587760" cy="213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Foreign WLAN or GPRS 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4132440" y="2808360"/>
            <a:ext cx="0" cy="98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32440" y="28083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32440" y="28083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32440" y="28083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08520" y="3811680"/>
            <a:ext cx="1440" cy="382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62720" y="3809880"/>
            <a:ext cx="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262320" y="4186080"/>
            <a:ext cx="1279440" cy="1843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923000" y="4167360"/>
            <a:ext cx="1277640" cy="188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402000" y="4305240"/>
            <a:ext cx="2682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.P.                                   A.P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22360" y="2431440"/>
            <a:ext cx="1792440" cy="701280"/>
          </a:xfrm>
          <a:prstGeom prst="roundRect">
            <a:avLst>
              <a:gd name="adj" fmla="val 16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IPv6  Home Ag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03400" y="6407280"/>
            <a:ext cx="693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32440" y="2809800"/>
            <a:ext cx="0" cy="98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32440" y="2809800"/>
            <a:ext cx="0" cy="988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30400" y="6593040"/>
            <a:ext cx="692280" cy="144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30640" y="5315760"/>
            <a:ext cx="2757600" cy="671400"/>
          </a:xfrm>
          <a:prstGeom prst="roundRect">
            <a:avLst>
              <a:gd name="adj" fmla="val 213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rrespondent Nod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eceiving Vide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4218120" y="4403520"/>
            <a:ext cx="1249200" cy="84132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2362320"/>
            <a:ext cx="2589480" cy="9486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obile Nod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nding Vide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888160" y="3500280"/>
            <a:ext cx="1484280" cy="64296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20880" y="6122880"/>
            <a:ext cx="2745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munication path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ired conn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802.11b wireless conn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022480" y="6216480"/>
            <a:ext cx="681120" cy="0"/>
          </a:xfrm>
          <a:prstGeom prst="line">
            <a:avLst/>
          </a:prstGeom>
          <a:ln w="28440">
            <a:solidFill>
              <a:srgbClr val="63a783"/>
            </a:solidFill>
            <a:prstDash val="sysDot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52960" y="3241800"/>
            <a:ext cx="2239920" cy="1990440"/>
          </a:xfrm>
          <a:prstGeom prst="line">
            <a:avLst/>
          </a:prstGeom>
          <a:ln w="28440">
            <a:solidFill>
              <a:srgbClr val="63a783"/>
            </a:solidFill>
            <a:prstDash val="sysDot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265200" y="3179880"/>
            <a:ext cx="3414600" cy="0"/>
          </a:xfrm>
          <a:prstGeom prst="line">
            <a:avLst/>
          </a:prstGeom>
          <a:ln w="28440">
            <a:solidFill>
              <a:srgbClr val="63a783"/>
            </a:solidFill>
            <a:prstDash val="sysDot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4200" y="4465800"/>
            <a:ext cx="2830320" cy="1463400"/>
          </a:xfrm>
          <a:prstGeom prst="rect">
            <a:avLst/>
          </a:prstGeom>
          <a:noFill/>
          <a:ln w="9360">
            <a:solidFill>
              <a:srgbClr val="63a7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3a783"/>
                </a:solidFill>
                <a:latin typeface="Arial"/>
              </a:rPr>
              <a:t>HA encapsulates and forwards packets to MN on foreign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124080"/>
            <a:ext cx="0" cy="68580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backpaq-03-512x384" descr=""/>
          <p:cNvPicPr/>
          <p:nvPr/>
        </p:nvPicPr>
        <p:blipFill>
          <a:blip r:embed="rId4"/>
          <a:stretch/>
        </p:blipFill>
        <p:spPr>
          <a:xfrm>
            <a:off x="7612200" y="3276720"/>
            <a:ext cx="1531800" cy="1149120"/>
          </a:xfrm>
          <a:prstGeom prst="rect">
            <a:avLst/>
          </a:prstGeom>
          <a:ln w="0">
            <a:noFill/>
          </a:ln>
        </p:spPr>
      </p:pic>
      <p:pic>
        <p:nvPicPr>
          <p:cNvPr id="211" name="backpaq-03-512x384" descr=""/>
          <p:cNvPicPr/>
          <p:nvPr/>
        </p:nvPicPr>
        <p:blipFill>
          <a:blip r:embed="rId5"/>
          <a:stretch/>
        </p:blipFill>
        <p:spPr>
          <a:xfrm>
            <a:off x="6934320" y="5334120"/>
            <a:ext cx="1531800" cy="11491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 flipV="1">
            <a:off x="5486400" y="3200040"/>
            <a:ext cx="1219320" cy="2057400"/>
          </a:xfrm>
          <a:prstGeom prst="line">
            <a:avLst/>
          </a:prstGeom>
          <a:ln w="28440">
            <a:solidFill>
              <a:srgbClr val="63a783"/>
            </a:solidFill>
            <a:prstDash val="sysDot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6720" y="2895480"/>
            <a:ext cx="3047760" cy="0"/>
          </a:xfrm>
          <a:prstGeom prst="line">
            <a:avLst/>
          </a:prstGeom>
          <a:ln w="28440">
            <a:solidFill>
              <a:srgbClr val="63a783"/>
            </a:solidFill>
            <a:prstDash val="sysDot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D636-59D7-448C-8EB7-86E939898FA1}" type="slidenum">
              <a:t>22</a:t>
            </a:fld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18360" bIns="18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1b3f7"/>
                </a:solidFill>
                <a:latin typeface="Arial"/>
              </a:rPr>
              <a:t>MIPv6 Architecture: Routing Optimization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84760" y="1976760"/>
            <a:ext cx="1655640" cy="732600"/>
          </a:xfrm>
          <a:prstGeom prst="roundRect">
            <a:avLst>
              <a:gd name="adj" fmla="val 176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Pv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262320" y="4186080"/>
            <a:ext cx="1279440" cy="1843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923000" y="4167360"/>
            <a:ext cx="1277640" cy="188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402000" y="4305240"/>
            <a:ext cx="2682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.P.                                   A.P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22360" y="2431440"/>
            <a:ext cx="1792440" cy="701280"/>
          </a:xfrm>
          <a:prstGeom prst="roundRect">
            <a:avLst>
              <a:gd name="adj" fmla="val 16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IPv6  </a:t>
            </a:r>
            <a:r>
              <a:rPr b="0" lang="en-GB" sz="1400" spc="-1" strike="noStrike">
                <a:solidFill>
                  <a:srgbClr val="e6ff00"/>
                </a:solidFill>
                <a:latin typeface="Arial"/>
              </a:rPr>
              <a:t>(H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ome Ag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03400" y="6407280"/>
            <a:ext cx="693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30400" y="6593040"/>
            <a:ext cx="692280" cy="144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5277600"/>
            <a:ext cx="3505320" cy="671400"/>
          </a:xfrm>
          <a:prstGeom prst="roundRect">
            <a:avLst>
              <a:gd name="adj" fmla="val 213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rrespondent Node (C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eceiving Vide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4218120" y="4403520"/>
            <a:ext cx="1249200" cy="841320"/>
          </a:xfrm>
          <a:prstGeom prst="line">
            <a:avLst/>
          </a:prstGeom>
          <a:ln cap="rnd" w="28440">
            <a:solidFill>
              <a:srgbClr val="00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888160" y="3276360"/>
            <a:ext cx="1579320" cy="86652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20880" y="6122880"/>
            <a:ext cx="2745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munication path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ired conn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802.11b wireless conn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022480" y="6216480"/>
            <a:ext cx="681120" cy="0"/>
          </a:xfrm>
          <a:prstGeom prst="line">
            <a:avLst/>
          </a:prstGeom>
          <a:ln w="28440">
            <a:solidFill>
              <a:srgbClr val="63a783"/>
            </a:solidFill>
            <a:prstDash val="sysDot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122520" y="3352680"/>
            <a:ext cx="1420920" cy="1879560"/>
          </a:xfrm>
          <a:prstGeom prst="line">
            <a:avLst/>
          </a:prstGeom>
          <a:ln w="28440">
            <a:solidFill>
              <a:srgbClr val="63a783"/>
            </a:solidFill>
            <a:prstDash val="sysDot"/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4200" y="4465800"/>
            <a:ext cx="2830320" cy="1463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3a783"/>
                </a:solidFill>
                <a:latin typeface="Arial"/>
              </a:rPr>
              <a:t>MN sends care-of address to CN, CN sends packets to new lo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804960" y="3776760"/>
            <a:ext cx="3316320" cy="213480"/>
            <a:chOff x="804960" y="3776760"/>
            <a:chExt cx="3316320" cy="213480"/>
          </a:xfrm>
        </p:grpSpPr>
        <p:sp>
          <p:nvSpPr>
            <p:cNvPr id="230" name=""/>
            <p:cNvSpPr/>
            <p:nvPr/>
          </p:nvSpPr>
          <p:spPr>
            <a:xfrm>
              <a:off x="804960" y="3797280"/>
              <a:ext cx="3314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04960" y="3776760"/>
              <a:ext cx="3316320" cy="213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Home WLAN or Ethern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319720" y="2808360"/>
            <a:ext cx="0" cy="988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32320" y="3776760"/>
            <a:ext cx="3587760" cy="213480"/>
            <a:chOff x="5332320" y="3776760"/>
            <a:chExt cx="3587760" cy="213480"/>
          </a:xfrm>
        </p:grpSpPr>
        <p:sp>
          <p:nvSpPr>
            <p:cNvPr id="234" name=""/>
            <p:cNvSpPr/>
            <p:nvPr/>
          </p:nvSpPr>
          <p:spPr>
            <a:xfrm>
              <a:off x="5332320" y="3797280"/>
              <a:ext cx="358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32320" y="3776760"/>
              <a:ext cx="3587760" cy="213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Foreign WLAN or GPRS 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908520" y="3811680"/>
            <a:ext cx="1440" cy="382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62720" y="3809880"/>
            <a:ext cx="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32440" y="2809800"/>
            <a:ext cx="0" cy="988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0" y="3276720"/>
            <a:ext cx="0" cy="53316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24480" y="2362320"/>
            <a:ext cx="2589480" cy="9486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obile Nod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nding Vide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backpaq-03-512x384" descr=""/>
          <p:cNvPicPr/>
          <p:nvPr/>
        </p:nvPicPr>
        <p:blipFill>
          <a:blip r:embed="rId4"/>
          <a:stretch/>
        </p:blipFill>
        <p:spPr>
          <a:xfrm>
            <a:off x="7086600" y="5708520"/>
            <a:ext cx="1531800" cy="1149480"/>
          </a:xfrm>
          <a:prstGeom prst="rect">
            <a:avLst/>
          </a:prstGeom>
          <a:ln w="0">
            <a:noFill/>
          </a:ln>
        </p:spPr>
      </p:pic>
      <p:pic>
        <p:nvPicPr>
          <p:cNvPr id="242" name="backpaq-03-512x384" descr=""/>
          <p:cNvPicPr/>
          <p:nvPr/>
        </p:nvPicPr>
        <p:blipFill>
          <a:blip r:embed="rId5"/>
          <a:stretch/>
        </p:blipFill>
        <p:spPr>
          <a:xfrm>
            <a:off x="7612200" y="3352680"/>
            <a:ext cx="1531800" cy="114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719A-391C-4F8C-9F9F-E8945E62F809}" type="slidenum">
              <a:t>23</a:t>
            </a:fld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Mercury Foundations and Collaboration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nd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sy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ding on Linux, StrongARM, camera, packaging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en Handhelds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ding on Linux on iPAQ H36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rnal Collabo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T (Oxygen Project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PAQ/BackPAQ being used as Handy 21 proto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uters (iPRISM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onstrating end-to-end 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MU (Coda, Intermezzo Filesystem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9F77-5773-46C2-B3A1-115E4497641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Mercury and Open Handhelds Team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y Hi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im Gett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y Christi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ian Av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ve A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n Kur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n De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ta Sukthank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nk Bom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ve Panari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il Reyno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R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m Law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5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5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bby Walla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q Handhe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en Nichol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eorge Bo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Source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rl Worth, Alexander Guy, Ken Causey, Edward Muller, George France, David Neuer, Jim Conn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y oth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MK, NP, AC, Linu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3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0F58-5536-4885-9514-833E7A37A8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iPAQ Linux Resource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helds.org website (</a:t>
            </a:r>
            <a:r>
              <a:rPr b="0" lang="en-US" sz="2400" spc="-1" strike="noStrike" u="sng">
                <a:solidFill>
                  <a:srgbClr val="f8eb6e"/>
                </a:solidFill>
                <a:uFillTx/>
                <a:latin typeface="Arial"/>
                <a:hlinkClick r:id="rId2"/>
              </a:rPr>
              <a:t>www.handhelds.or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helds wiki (</a:t>
            </a:r>
            <a:r>
              <a:rPr b="0" lang="en-US" sz="2400" spc="-1" strike="noStrike" u="sng">
                <a:solidFill>
                  <a:srgbClr val="f8eb6e"/>
                </a:solidFill>
                <a:uFillTx/>
                <a:latin typeface="Arial"/>
                <a:hlinkClick r:id="rId3"/>
              </a:rPr>
              <a:t>www.handhelds.org/z/wik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cludes search interfa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orld writable – please use and contribu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t (IRC on irc.openprojects.n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#handhelds.org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stly ipaq linux discus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#familia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amiliar distribution discus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#ipaq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ghtly populated, installation sup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ail: (www.handhelds.org/email_lists.htm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8eb6e"/>
                </a:solidFill>
                <a:uFillTx/>
                <a:latin typeface="Arial"/>
                <a:hlinkClick r:id="rId4"/>
              </a:rPr>
              <a:t>ipaq</a:t>
            </a:r>
            <a:r>
              <a:rPr b="0" lang="en-US" sz="2200" spc="-1" strike="noStrike" u="sng">
                <a:solidFill>
                  <a:srgbClr val="f8eb6e"/>
                </a:solidFill>
                <a:uFillTx/>
                <a:latin typeface="Arial"/>
                <a:hlinkClick r:id="rId5"/>
              </a:rPr>
              <a:t>@handhelds.org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200" spc="-1" strike="noStrike" u="sng">
                <a:solidFill>
                  <a:srgbClr val="f8eb6e"/>
                </a:solidFill>
                <a:uFillTx/>
                <a:latin typeface="Arial"/>
                <a:hlinkClick r:id="rId6"/>
              </a:rPr>
              <a:t>linux@handhelds.org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200" spc="-1" strike="noStrike" u="sng">
                <a:solidFill>
                  <a:srgbClr val="f8eb6e"/>
                </a:solidFill>
                <a:uFillTx/>
                <a:latin typeface="Arial"/>
                <a:hlinkClick r:id="rId7"/>
              </a:rPr>
              <a:t>familiar@handhelds.org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200" spc="-1" strike="noStrike" u="sng">
                <a:solidFill>
                  <a:srgbClr val="f8eb6e"/>
                </a:solidFill>
                <a:uFillTx/>
                <a:latin typeface="Arial"/>
                <a:hlinkClick r:id="rId8"/>
              </a:rPr>
              <a:t>bootldr@handhelds.org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D993-A221-4709-96A4-1971A17D9F3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1b3f7"/>
                </a:solidFill>
                <a:latin typeface="Arial"/>
              </a:rPr>
              <a:t>References</a:t>
            </a:r>
            <a:endParaRPr b="1" lang="en-US" sz="36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://crl.research.compaq.com/projects/mercury/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helds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rcury’s Linux and application b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8eb6e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en-US" sz="2600" spc="-1" strike="noStrike" u="sng">
                <a:solidFill>
                  <a:srgbClr val="f8eb6e"/>
                </a:solidFill>
                <a:uFillTx/>
                <a:latin typeface="Arial"/>
                <a:hlinkClick r:id="rId3"/>
              </a:rPr>
              <a:t>handhelds</a:t>
            </a:r>
            <a:r>
              <a:rPr b="0" lang="en-US" sz="2600" spc="-1" strike="noStrike" u="sng">
                <a:solidFill>
                  <a:srgbClr val="f8eb6e"/>
                </a:solidFill>
                <a:uFillTx/>
                <a:latin typeface="Arial"/>
                <a:hlinkClick r:id="rId4"/>
              </a:rPr>
              <a:t>.org/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iar Linux Dis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://familiar.handhelds.org/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E727-95B4-4817-B383-08EB38F69E6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CAB0-FB40-4B34-9A0E-671E1A9C002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iPAQ Linux Distribution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iginal handhelds.org distrib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aracterized by cramfs, twm, motley app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liar Linux (familiar.handhelds.or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jffs2 root, python scripting, ipkg, ion wm, network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imate Linux (intimate.handhelds.or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RM Debian on iPAQ with disk, boot via WinCE or Famili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PE (www.trolltech.c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cketLinux (www.pocketlinux.c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ernel from handhelds.org, kaffe jvm, xml app def’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familiar-screenshot" descr=""/>
          <p:cNvPicPr/>
          <p:nvPr/>
        </p:nvPicPr>
        <p:blipFill>
          <a:blip r:embed="rId2"/>
          <a:stretch/>
        </p:blipFill>
        <p:spPr>
          <a:xfrm>
            <a:off x="7162920" y="457200"/>
            <a:ext cx="1733400" cy="231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F36A-77DC-4CCE-B4E6-1E3D169BF38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Pervasive Handheld Computing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berry – a step in the right di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ail anywhe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if we had GB local storage and wireless network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your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your ap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e storage: safely store credit card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play on a projector in the ro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how headings on wristwatch compu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how 3D rendering on deskto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rim_blackberry_family_orange" descr=""/>
          <p:cNvPicPr/>
          <p:nvPr/>
        </p:nvPicPr>
        <p:blipFill>
          <a:blip r:embed="rId2"/>
          <a:stretch/>
        </p:blipFill>
        <p:spPr>
          <a:xfrm>
            <a:off x="7238880" y="990720"/>
            <a:ext cx="1425600" cy="162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DC96-C1FB-4A46-83E5-4C7E17571D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Pervasive Computing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mless, secure, ubiquitous access to your all your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whe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cent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he next generation of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B3DC-F801-4987-B660-FDA89C03CC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Anytime, Anywhere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any network, on any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best available net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” can be cheapest, fastest,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amless”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 automatic discovery and configuration of devices, networks, and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apt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rieval, rendering, UI appropriate to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nsto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has to work all the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ED2F-ABA8-4693-96C7-66D80E08F0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Research Questions: System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ic admin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cove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figu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ann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ed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ure, replicated, consist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ive net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ices, microcomme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3EDC-233E-4216-975C-A53D165FFF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Vision of Handheld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b11f"/>
                </a:solidFill>
                <a:latin typeface="Arial"/>
              </a:rPr>
              <a:t>Open Handhelds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cury Project (BackPAQ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60E9-9F8C-4045-AED5-9F06406C81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Open Handhelds Project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6640" indent="-206640">
              <a:lnSpc>
                <a:spcPct val="90000"/>
              </a:lnSpc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 for stimulating development of innovative new applications on handhelds (e.g., iPAQ H36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6640" indent="-206640">
              <a:lnSpc>
                <a:spcPct val="90000"/>
              </a:lnSpc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ived from OpenItsy Initi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Joel Bartlett, Bill Hamburgen (WRL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research.compaq.com/wrl/projects/Itsy/itsy.ht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06640" indent="-206640">
              <a:lnSpc>
                <a:spcPct val="90000"/>
              </a:lnSpc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site (www.handhelds.or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osts source code, binaries, discussion group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ree technical sup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ed hardware for key develop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munity: 500 entries on email list, active IR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06640" indent="-206640">
              <a:lnSpc>
                <a:spcPct val="90000"/>
              </a:lnSpc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pril 2000: Began Linux port to iPAQ H36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June 2000: Posted first release of Linux for H3600 on www.handhelds.or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E837-8881-4890-937B-FEC79520A2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Linux Capabilitie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92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20680" indent="-220680">
              <a:lnSpc>
                <a:spcPct val="90000"/>
              </a:lnSpc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ux Kernel 2.4.7 (this wee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NU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GUI flex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X Window System, Qt, Microwindow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e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JFFS2: compressed journaling flash filesys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t2, vfat, nfs, samba, cod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LAN, WW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PSEC and other VP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Pv6, Mobile 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va 2 Micro and Standard E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 just a zippy PDA, but a pocket works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562720" y="762120"/>
            <a:ext cx="3352680" cy="206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C7B7-C078-44E9-9885-D25453140D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30T15:58:08Z</dcterms:created>
  <dc:creator>jamey hicks</dc:creator>
  <dc:description/>
  <dc:language>en-US</dc:language>
  <cp:lastModifiedBy>Jamey Hicks</cp:lastModifiedBy>
  <cp:lastPrinted>2000-08-16T14:59:41Z</cp:lastPrinted>
  <dcterms:modified xsi:type="dcterms:W3CDTF">2001-10-18T21:59:05Z</dcterms:modified>
  <cp:revision>1462</cp:revision>
  <dc:subject/>
  <dc:title>Future of Handheld Computing</dc:title>
</cp:coreProperties>
</file>