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84B78-F70D-4B3D-B0EC-27A446C5B6BA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t’s step back now to talk about one of the foundations: OHH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B91-BB62-4B37-98FC-35CA4C7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BD3-D933-43B4-9E3E-8A88B4D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930-7C22-4A53-B818-2D09E94F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F9A-A7BC-4241-8C1C-97461E60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51D-5F77-48CE-A299-8FA863C7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020-69B6-4AFD-9852-8309F976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0AA9-F516-4AD5-B531-C1AE411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6F1D-3D75-4A58-A3D6-77C560C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20D1-E6BA-44DF-95B6-1630407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DBF9-9291-4C10-83A1-4312F2A8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5145-8E15-4931-8B08-947AE7B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0C3-1D7F-4562-BC43-7F41A70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C22-6180-45A3-B757-19CD3A83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3F32-1348-42CC-926C-0FAD720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4C9C-44FC-48D4-BD9F-4ABE4E0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B72C-A25B-4543-A698-B011488E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3F0B-4EE8-4968-B029-5AE5E4E0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1A9-412F-47B2-B356-CF01C937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547-84D3-46C1-97C5-9225AA78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6B0-D8FF-44C5-A02A-3ECBFD8B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C8F-7159-4D79-B579-B7982629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5AB-D1B7-4693-A786-9D3A061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9E1-2A4C-4930-A9B0-ADF5490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1E4-B31C-4C5F-AE78-4810BFF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736-C514-4F83-83F7-A27CDD814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157-FC4D-4022-913F-0A7E41837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ndhelds.org/" TargetMode="External"/><Relationship Id="rId3" Type="http://schemas.openxmlformats.org/officeDocument/2006/relationships/hyperlink" Target="http://www.handhelds.org/z/wiki" TargetMode="External"/><Relationship Id="rId4" Type="http://schemas.openxmlformats.org/officeDocument/2006/relationships/hyperlink" Target="mailto:Ipaq@handhelds.org" TargetMode="External"/><Relationship Id="rId5" Type="http://schemas.openxmlformats.org/officeDocument/2006/relationships/hyperlink" Target="mailto:Ipaq@handhelds.org" TargetMode="External"/><Relationship Id="rId6" Type="http://schemas.openxmlformats.org/officeDocument/2006/relationships/hyperlink" Target="mailto:linux@handhelds.org" TargetMode="External"/><Relationship Id="rId7" Type="http://schemas.openxmlformats.org/officeDocument/2006/relationships/hyperlink" Target="mailto:familiar@handhelds.org" TargetMode="External"/><Relationship Id="rId8" Type="http://schemas.openxmlformats.org/officeDocument/2006/relationships/hyperlink" Target="mailto:bootldr@handhelds.org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ndhelds.org/" TargetMode="External"/><Relationship Id="rId3" Type="http://schemas.openxmlformats.org/officeDocument/2006/relationships/hyperlink" Target="http://www.handhelds.org/" TargetMode="External"/><Relationship Id="rId4" Type="http://schemas.openxmlformats.org/officeDocument/2006/relationships/hyperlink" Target="http://www.handhelds.org/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54380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ompaq Mercury Project</a:t>
            </a:r>
            <a:br>
              <a:rPr sz="4000"/>
            </a:b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Exploring the Future of Handheld Computing</a:t>
            </a:r>
            <a:br>
              <a:rPr sz="40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18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y H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y.hicks@compaq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Linux on the iPAQ: Familiar distributio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thon scrip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FFS2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Window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nome toolk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screen handwriting inp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ti-aliased fo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ndscape or Portrait m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as ipk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familiar-screenshot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[Dbutter@wireless.ne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AAD-B5F1-40A4-8B4A-E91155E39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QPE: Qt Pocket Environmen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amiliar as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as ipkg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lished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qpe-applications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655800" cy="487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1AC-8F53-46A8-B274-B2D7F8A21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ntimate Linux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by close acquaintance, association, or familiarity. See Synonyms at famil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blown linux on the Compaq iPAQ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nts: bochs x86 em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slashdot1" descr=""/>
          <p:cNvPicPr/>
          <p:nvPr/>
        </p:nvPicPr>
        <p:blipFill>
          <a:blip r:embed="rId2"/>
          <a:stretch/>
        </p:blipFill>
        <p:spPr>
          <a:xfrm>
            <a:off x="4567320" y="457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bochs0-x86-linux" descr=""/>
          <p:cNvPicPr/>
          <p:nvPr/>
        </p:nvPicPr>
        <p:blipFill>
          <a:blip r:embed="rId3"/>
          <a:stretch/>
        </p:blipFill>
        <p:spPr>
          <a:xfrm>
            <a:off x="4567320" y="3657600"/>
            <a:ext cx="404316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687-6C61-4DDF-B82A-3A052E9E1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ocketLinux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1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application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ed in J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time: kaffe JV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S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upport for “them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follow the 1.0 installation instructions – they can be hazardous to ipaq’s – email jamey for revised instructions if you’re interested in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ocketlinux-mgr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962520" cy="247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3A0-9AD9-4C77-862C-29CE73A26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b11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1E5-81E0-4972-A581-B1B04EF92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RL’s Mercury Projec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earch project to extend the boundaries of pervasive wireless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war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andheld research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ftwar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, middleware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inux Kernel and Open Sourc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v6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xploring the future of handheld compu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73F-1E10-498D-8413-B64335817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Hardwa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the envelope of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PAQ: prototyping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on pack wit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GA CMOS cam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MB Flash, FPG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expansion connecto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PC Card sl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o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 codec and headset conn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LAN and WWAN via PC C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backpaq-f-256x128" descr=""/>
          <p:cNvPicPr/>
          <p:nvPr/>
        </p:nvPicPr>
        <p:blipFill>
          <a:blip r:embed="rId2"/>
          <a:stretch/>
        </p:blipFill>
        <p:spPr>
          <a:xfrm>
            <a:off x="6858000" y="990720"/>
            <a:ext cx="162576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989-5802-4043-95E9-21AA6DD3D1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H3600/BackPAQ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pic>
        <p:nvPicPr>
          <p:cNvPr id="134" name="backpaq-01-512x384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7CC-678A-405F-A9A3-DA37DDDB0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H3600/BackPAQ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pic>
        <p:nvPicPr>
          <p:cNvPr id="136" name="backpaq-12-512x384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0BD-BAA2-4B6D-AB99-56125DE5D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BackPAQ Accelerometer Demo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 and mo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use runs downhill and cat follows mo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 iPAQ/BackPAQ up, on side, upside d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is rotated to m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dow manager receives ResizeAndRotate ev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s are resized appropriat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78F-C56C-48C6-820E-0C4276B144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C68-CD02-498E-9987-965A0747B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BackPAQ Video Conferencing Demo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323 audio and video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call Polycom or Netmee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.261 codec is quite s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openh323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: videoconferenc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codecs suppor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cast and IPv6 also suppor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tp://ftp.ee.lbl.gov/conferencing/v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2ED-4606-478F-B7EB-A78221421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IPv6 Node Mobility Architectu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196560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145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149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9240" y="3811680"/>
            <a:ext cx="14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2360" y="2446560"/>
            <a:ext cx="1792440" cy="6706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H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1520" y="6456240"/>
            <a:ext cx="69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819520"/>
            <a:ext cx="17640" cy="979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8520" y="6642000"/>
            <a:ext cx="692280" cy="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99360" y="6172200"/>
            <a:ext cx="2744640" cy="5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59040" y="4366800"/>
            <a:ext cx="754200" cy="6555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30640" y="5149080"/>
            <a:ext cx="2757600" cy="100656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    </a:t>
            </a:r>
            <a:r>
              <a:rPr b="0" lang="en-GB" sz="2200" spc="-1" strike="noStrike">
                <a:solidFill>
                  <a:srgbClr val="e6ff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C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5410080"/>
            <a:ext cx="982800" cy="181080"/>
          </a:xfrm>
          <a:prstGeom prst="line">
            <a:avLst/>
          </a:prstGeom>
          <a:ln cap="rnd" w="28440">
            <a:solidFill>
              <a:srgbClr val="63a783"/>
            </a:solidFill>
            <a:custDash>
              <a:ds d="100000" sp="1000"/>
            </a:custDash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706720" y="6272280"/>
            <a:ext cx="679320" cy="0"/>
          </a:xfrm>
          <a:prstGeom prst="line">
            <a:avLst/>
          </a:prstGeom>
          <a:ln cap="rnd" w="28440">
            <a:solidFill>
              <a:srgbClr val="e6ff00"/>
            </a:solidFill>
            <a:custDash>
              <a:ds d="100000" sp="1000"/>
            </a:custDash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041560"/>
            <a:ext cx="2830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Direct routing from CN to MN on hom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276720"/>
            <a:ext cx="0" cy="5331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881960"/>
            <a:ext cx="258912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ackpaq-03-512x384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1531800" cy="1149120"/>
          </a:xfrm>
          <a:prstGeom prst="rect">
            <a:avLst/>
          </a:prstGeom>
          <a:ln w="0">
            <a:noFill/>
          </a:ln>
        </p:spPr>
      </p:pic>
      <p:pic>
        <p:nvPicPr>
          <p:cNvPr id="175" name="backpaq-03-512x384" descr=""/>
          <p:cNvPicPr/>
          <p:nvPr/>
        </p:nvPicPr>
        <p:blipFill>
          <a:blip r:embed="rId5"/>
          <a:stretch/>
        </p:blipFill>
        <p:spPr>
          <a:xfrm>
            <a:off x="533520" y="5708520"/>
            <a:ext cx="153180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4F1-521E-49FA-A7F2-17FFDAAC84CF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MIPv6 After Node Migration: Forward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197676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180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184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132440" y="280836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32440" y="28083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809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2360" y="2431440"/>
            <a:ext cx="1792440" cy="7012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03400" y="6407280"/>
            <a:ext cx="69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0400" y="6593040"/>
            <a:ext cx="692280" cy="14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30640" y="5315760"/>
            <a:ext cx="2757600" cy="67140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362320"/>
            <a:ext cx="258948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888160" y="3500280"/>
            <a:ext cx="1484280" cy="6429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0880" y="6122880"/>
            <a:ext cx="2745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22480" y="6216480"/>
            <a:ext cx="68112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2960" y="3241800"/>
            <a:ext cx="2239920" cy="199044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265200" y="3179880"/>
            <a:ext cx="341460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200" y="4465800"/>
            <a:ext cx="2830320" cy="1463400"/>
          </a:xfrm>
          <a:prstGeom prst="rect">
            <a:avLst/>
          </a:prstGeom>
          <a:noFill/>
          <a:ln w="9360">
            <a:solidFill>
              <a:srgbClr val="63a7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HA encapsulates and forwards packets to MN on foreign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124080"/>
            <a:ext cx="0" cy="685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ackpaq-03-512x384" descr=""/>
          <p:cNvPicPr/>
          <p:nvPr/>
        </p:nvPicPr>
        <p:blipFill>
          <a:blip r:embed="rId4"/>
          <a:stretch/>
        </p:blipFill>
        <p:spPr>
          <a:xfrm>
            <a:off x="7612200" y="3276720"/>
            <a:ext cx="1531800" cy="1149120"/>
          </a:xfrm>
          <a:prstGeom prst="rect">
            <a:avLst/>
          </a:prstGeom>
          <a:ln w="0">
            <a:noFill/>
          </a:ln>
        </p:spPr>
      </p:pic>
      <p:pic>
        <p:nvPicPr>
          <p:cNvPr id="211" name="backpaq-03-512x384" descr=""/>
          <p:cNvPicPr/>
          <p:nvPr/>
        </p:nvPicPr>
        <p:blipFill>
          <a:blip r:embed="rId5"/>
          <a:stretch/>
        </p:blipFill>
        <p:spPr>
          <a:xfrm>
            <a:off x="6934320" y="5334120"/>
            <a:ext cx="1531800" cy="1149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5486400" y="3200040"/>
            <a:ext cx="1219320" cy="205740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895480"/>
            <a:ext cx="304776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125-ED1C-4717-A661-6021F6FA599A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18360" bIns="18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1b3f7"/>
                </a:solidFill>
                <a:latin typeface="Arial"/>
              </a:rPr>
              <a:t>MIPv6 Architecture: Routing Optimizatio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1976760"/>
            <a:ext cx="1655640" cy="732600"/>
          </a:xfrm>
          <a:prstGeom prst="roundRect">
            <a:avLst>
              <a:gd name="adj" fmla="val 17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62320" y="4186080"/>
            <a:ext cx="1279440" cy="184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923000" y="4167360"/>
            <a:ext cx="1277640" cy="188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02000" y="4305240"/>
            <a:ext cx="268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P.                                   A.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360" y="2431440"/>
            <a:ext cx="1792440" cy="7012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Pv6  </a:t>
            </a:r>
            <a:r>
              <a:rPr b="0" lang="en-GB" sz="1400" spc="-1" strike="noStrike">
                <a:solidFill>
                  <a:srgbClr val="e6ff00"/>
                </a:solidFill>
                <a:latin typeface="Arial"/>
              </a:rPr>
              <a:t>(H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me Ag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03400" y="6407280"/>
            <a:ext cx="69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30400" y="6593040"/>
            <a:ext cx="692280" cy="14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277600"/>
            <a:ext cx="3505320" cy="67140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rrespondent Node (C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eiv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218120" y="4403520"/>
            <a:ext cx="1249200" cy="841320"/>
          </a:xfrm>
          <a:prstGeom prst="line">
            <a:avLst/>
          </a:prstGeom>
          <a:ln cap="rnd" w="2844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88160" y="3276360"/>
            <a:ext cx="1579320" cy="8665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20880" y="6122880"/>
            <a:ext cx="2745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 path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red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02.11b wireless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022480" y="6216480"/>
            <a:ext cx="681120" cy="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122520" y="3352680"/>
            <a:ext cx="1420920" cy="1879560"/>
          </a:xfrm>
          <a:prstGeom prst="line">
            <a:avLst/>
          </a:prstGeom>
          <a:ln w="28440">
            <a:solidFill>
              <a:srgbClr val="63a783"/>
            </a:solidFill>
            <a:prstDash val="sysDot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200" y="4465800"/>
            <a:ext cx="283032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3a783"/>
                </a:solidFill>
                <a:latin typeface="Arial"/>
              </a:rPr>
              <a:t>MN sends care-of address to CN, CN sends packets to new lo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04960" y="3776760"/>
            <a:ext cx="3316320" cy="213480"/>
            <a:chOff x="804960" y="3776760"/>
            <a:chExt cx="3316320" cy="213480"/>
          </a:xfrm>
        </p:grpSpPr>
        <p:sp>
          <p:nvSpPr>
            <p:cNvPr id="230" name=""/>
            <p:cNvSpPr/>
            <p:nvPr/>
          </p:nvSpPr>
          <p:spPr>
            <a:xfrm>
              <a:off x="804960" y="3797280"/>
              <a:ext cx="331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4960" y="3776760"/>
              <a:ext cx="331632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Home WLAN or Eth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319720" y="28083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2320" y="3776760"/>
            <a:ext cx="3587760" cy="213480"/>
            <a:chOff x="5332320" y="3776760"/>
            <a:chExt cx="3587760" cy="213480"/>
          </a:xfrm>
        </p:grpSpPr>
        <p:sp>
          <p:nvSpPr>
            <p:cNvPr id="234" name=""/>
            <p:cNvSpPr/>
            <p:nvPr/>
          </p:nvSpPr>
          <p:spPr>
            <a:xfrm>
              <a:off x="5332320" y="3797280"/>
              <a:ext cx="358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2320" y="3776760"/>
              <a:ext cx="3587760" cy="21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eign WLAN or GPRS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08520" y="3811680"/>
            <a:ext cx="1440" cy="382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809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32440" y="280980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276720"/>
            <a:ext cx="0" cy="5331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2362320"/>
            <a:ext cx="2589480" cy="9486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bile No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ding Vide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backpaq-03-512x384" descr=""/>
          <p:cNvPicPr/>
          <p:nvPr/>
        </p:nvPicPr>
        <p:blipFill>
          <a:blip r:embed="rId4"/>
          <a:stretch/>
        </p:blipFill>
        <p:spPr>
          <a:xfrm>
            <a:off x="7086600" y="5708520"/>
            <a:ext cx="1531800" cy="1149480"/>
          </a:xfrm>
          <a:prstGeom prst="rect">
            <a:avLst/>
          </a:prstGeom>
          <a:ln w="0">
            <a:noFill/>
          </a:ln>
        </p:spPr>
      </p:pic>
      <p:pic>
        <p:nvPicPr>
          <p:cNvPr id="242" name="backpaq-03-512x384" descr=""/>
          <p:cNvPicPr/>
          <p:nvPr/>
        </p:nvPicPr>
        <p:blipFill>
          <a:blip r:embed="rId5"/>
          <a:stretch/>
        </p:blipFill>
        <p:spPr>
          <a:xfrm>
            <a:off x="7612200" y="3352680"/>
            <a:ext cx="153180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58B-C174-41FA-8C5C-989FEC780229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Foundations and Collaboration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n Linux, StrongARM, camera, packaging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 Handheld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n Linux on iPAQ H3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T (Oxygen Project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AQ/BackPAQ being used as Handy 21 proto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uters (iPRISM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ng end-to-en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MU (Coda, Intermezzo Filesystem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CDE-9056-4611-A7E2-C6BF40AD0C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Mercury and Open Handhelds Te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y Hi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Gett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y Christ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an A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 Ku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 De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ta Sukthank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k Bo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 Panar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l Reyn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 Law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bby Wall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q Handh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en Nichol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orge B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l Worth, Alexander Guy, Ken Causey, Edward Muller, George France, David Neuer, Jim Con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MK, NP, AC, Linu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1B3-9DD1-4251-8355-914BC773E9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Linux Resourc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helds.org website (</a:t>
            </a:r>
            <a:r>
              <a:rPr b="0" lang="en-US" sz="2400" spc="-1" strike="noStrike" u="sng">
                <a:solidFill>
                  <a:srgbClr val="f8eb6e"/>
                </a:solidFill>
                <a:uFillTx/>
                <a:latin typeface="Arial"/>
                <a:hlinkClick r:id="rId2"/>
              </a:rPr>
              <a:t>www.handhelds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helds wiki (</a:t>
            </a:r>
            <a:r>
              <a:rPr b="0" lang="en-US" sz="2400" spc="-1" strike="noStrike" u="sng">
                <a:solidFill>
                  <a:srgbClr val="f8eb6e"/>
                </a:solidFill>
                <a:uFillTx/>
                <a:latin typeface="Arial"/>
                <a:hlinkClick r:id="rId3"/>
              </a:rPr>
              <a:t>www.handhelds.org/z/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s search interf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ld writable – please use and con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 (IRC on irc.openprojects.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ly ipaq linux discu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familia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miliar distribution discu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ipaq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ly populated, installation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: (www.handhelds.org/email_lists.ht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4"/>
              </a:rPr>
              <a:t>ipaq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5"/>
              </a:rPr>
              <a:t>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6"/>
              </a:rPr>
              <a:t>linux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7"/>
              </a:rPr>
              <a:t>familiar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f8eb6e"/>
                </a:solidFill>
                <a:uFillTx/>
                <a:latin typeface="Arial"/>
                <a:hlinkClick r:id="rId8"/>
              </a:rPr>
              <a:t>bootldr@handhelds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5CE-6215-4A0D-94E9-757D05F477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1b3f7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rl.research.compaq.com/projects/mercury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held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rcury’s Linux and application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3"/>
              </a:rPr>
              <a:t>handhelds</a:t>
            </a:r>
            <a:r>
              <a:rPr b="0" lang="en-US" sz="2600" spc="-1" strike="noStrike" u="sng">
                <a:solidFill>
                  <a:srgbClr val="f8eb6e"/>
                </a:solidFill>
                <a:uFillTx/>
                <a:latin typeface="Arial"/>
                <a:hlinkClick r:id="rId4"/>
              </a:rPr>
              <a:t>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ar Linux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familiar.handhelds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4F5-92F3-4662-84B5-E773844AE8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5FF-F560-43C7-8011-84B5967A57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iPAQ Linux Distribution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handhelds.org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racterized by cramfs, twm, motley ap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r Linux (familiar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ffs2 root, python scripting, ipkg, ion wm, networ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imate Linux (intimate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M Debian on iPAQ with disk, boot via WinCE or Famili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PE (www.trolltech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ketLinux (www.pocketlinux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ernel from handhelds.org, kaffe jvm, xml app def’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familiar-screenshot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73340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4A2-F6AC-433E-BD49-9B4E728C8A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ervasive Handheld Comput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berry – a step in the right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ail anyw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f we had GB local storage and wireless network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you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your a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 storage: safely store credit car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on a projector in the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w headings on wristwatch compu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w 3D rendering on deskto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im_blackberry_family_orange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425600" cy="162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38D-580A-4B5D-A164-A3536A3EE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Pervasive Computing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mless, secure, ubiquitous access to your all your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w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cen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e next generation of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476-5057-4969-A9FA-EBB6DA52D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Anytime, Anywher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y network, on any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best availabl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” can be cheapest, fastest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mless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 automatic discovery and configuration of devices, networks,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ieval, rendering, UI appropriate to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to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work all th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FC0-AEFB-430B-ACD4-B09C23EDE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Research Questions: System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gu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ure, replicated, consist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, micro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271-0703-4D83-AD1F-D1B790A8B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Vision of Handhel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b11f"/>
                </a:solidFill>
                <a:latin typeface="Arial"/>
              </a:rPr>
              <a:t>Open Handheld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Project (BackP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296-D975-41B7-81AF-602AA6BD7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Open Handhelds Projec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for stimulating development of innovative new applications on handhelds (e.g., iPAQ H3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from OpenItsy Init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el Bartlett, Bill Hamburgen (WR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research.compaq.com/wrl/projects/Itsy/itsy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 (www.handhelds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ts source code, binaries, discussion grou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technical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ed hardware for key develop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ty: 500 entries on email list, active IR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06640" indent="-20664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ril 2000: Began Linux port to iPAQ H36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June 2000: Posted first release of Linux for H3600 on www.handheld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B05-108B-4728-8B26-A9E3738061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Linux Capabiliti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92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Kernel 2.4.7 (this we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NU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UI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 Window System, Qt, Microwind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FFS2: compressed journaling flash file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2, vfat, nfs, samba, cod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LAN, WW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SEC and other VP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v6, Mobile 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2 Micro and Standard E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just a zippy PDA, but a pocket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352680" cy="206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3BA-43A3-4C7D-8A5C-5108C3FFA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30T15:58:08Z</dcterms:created>
  <dc:creator>jamey hicks</dc:creator>
  <dc:description/>
  <dc:language>en-US</dc:language>
  <cp:lastModifiedBy>Jamey Hicks</cp:lastModifiedBy>
  <cp:lastPrinted>2000-08-16T14:59:41Z</cp:lastPrinted>
  <dcterms:modified xsi:type="dcterms:W3CDTF">2001-10-18T21:59:05Z</dcterms:modified>
  <cp:revision>1462</cp:revision>
  <dc:subject/>
  <dc:title>Future of Handheld Computing</dc:title>
</cp:coreProperties>
</file>