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5D3C-7D25-4049-8341-D8151CDC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FF8-638C-495C-935D-58390AD6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0A8-64C1-4FAC-8FA3-AB121BC3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6B6-C01A-497A-9A6E-DC1CC235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BF6-9A50-45AB-AFE3-24481366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07F-6A99-42CC-A143-549E6DF1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444-45B5-40CB-9D24-37EC6BD2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56EB-846A-427A-9786-C369F938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3A31-D13B-4F1B-B899-BDA2093F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E44-1069-41E4-BE63-5C645D39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EF84-5A1A-47A8-9E4B-5C225122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763-1313-423C-A38E-385310E5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E78B-241C-4070-8AB6-374C1719A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2743200"/>
            <a:ext cx="182880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1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2514600"/>
            <a:ext cx="15238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762120"/>
            <a:ext cx="137160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98108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2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4800600"/>
            <a:ext cx="9144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286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14300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352680" y="1142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962520" y="12189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1219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4952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5334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5791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1219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1028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6120" y="4800600"/>
            <a:ext cx="84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c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5181480"/>
            <a:ext cx="8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31000" y="5675400"/>
            <a:ext cx="6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6840" y="617220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72200" y="36180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37440" y="3581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63640" y="32367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 c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61480" y="262728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M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97880" y="10666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70120" y="91440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0/USB(Sla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2560" y="2438280"/>
            <a:ext cx="106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3/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4440" y="312408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232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3600" y="40384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4/S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90520" y="243828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23680" y="304812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2160" y="342900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IO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360" y="19368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rnada 720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286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040" y="213372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2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44956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29560" y="4379760"/>
            <a:ext cx="5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9080" y="403848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2/Ir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876560" y="32767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885840" y="1905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01:49:25Z</dcterms:created>
  <dc:creator>PC-COE</dc:creator>
  <dc:description/>
  <dc:language>en-US</dc:language>
  <cp:lastModifiedBy>kykim</cp:lastModifiedBy>
  <dcterms:modified xsi:type="dcterms:W3CDTF">2002-04-10T23:12:46Z</dcterms:modified>
  <cp:revision>9</cp:revision>
  <dc:subject/>
  <dc:title>PowerPoint Presentation</dc:title>
</cp:coreProperties>
</file>