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22C-A240-48AA-A705-4593BEB5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21E-AA67-43F9-A159-76635C5B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715-A890-4153-B857-ECC39499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390-7A0C-46BD-AFBB-A2F9B232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451-47D5-420F-B5F6-63B417A1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72A-5CD9-417E-B6CE-A10975FE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063-FC2A-4323-BEE9-A90D842D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1BE-97DC-4C72-B9DA-DABB1005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6BD-FC99-4E8C-B65F-B5EBF52A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D08-B720-4D4D-A9C9-BF809966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55B-9F67-4CDC-A225-598B592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2E0-2C69-4C0A-B0F7-5812E25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12FB-BF2E-48AB-B1B1-50376999E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2743200"/>
            <a:ext cx="182880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2514600"/>
            <a:ext cx="15238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762120"/>
            <a:ext cx="13716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4800600"/>
            <a:ext cx="9144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30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35268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62520" y="12189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5791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121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6120" y="4800600"/>
            <a:ext cx="84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18148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1000" y="567540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6840" y="61722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2200" y="36180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37440" y="3581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63640" y="32367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61480" y="262728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M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97880" y="1066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70120" y="91440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0/USB(Sla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2560" y="2438280"/>
            <a:ext cx="106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3/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4440" y="31240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232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3600" y="40384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4/S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90520" y="243828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3680" y="304812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3429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IO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360" y="19368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rnada 720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86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040" y="21337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4495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29560" y="437976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9080" y="40384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2/I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76560" y="3276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58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1:49:25Z</dcterms:created>
  <dc:creator>PC-COE</dc:creator>
  <dc:description/>
  <dc:language>en-US</dc:language>
  <cp:lastModifiedBy>kykim</cp:lastModifiedBy>
  <dcterms:modified xsi:type="dcterms:W3CDTF">2002-04-10T23:12:46Z</dcterms:modified>
  <cp:revision>9</cp:revision>
  <dc:subject/>
  <dc:title>PowerPoint Presentation</dc:title>
</cp:coreProperties>
</file>