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BF44-06CB-4F0B-BD2A-0B30A92D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E9C8-6768-4D8D-BF1B-6EC2204A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D5BB-FAEB-4FB3-946A-D297940F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EEC-9AC0-4D62-93E2-ADD11B6D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4D77-5D14-4CCA-B3E3-E2C04D33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FB0-953B-41A2-823D-5F258C0B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58A9-722B-473B-AB66-D568F377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7240-3D02-43CA-8144-C67B8BB3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1916-2849-465F-B8E7-842D40B6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867-043A-4C8C-80C6-AC43ED1B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903-EDAC-4DFA-9918-26E2E24F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592B-CDCF-419A-B569-E1C476D6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2A72-6F40-4F67-A671-BC1749BBC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2743200"/>
            <a:ext cx="182880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1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86400" y="2514600"/>
            <a:ext cx="15238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762120"/>
            <a:ext cx="13716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9810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2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4800600"/>
            <a:ext cx="9144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2286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14300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352680" y="11426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962520" y="12189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1219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4952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5334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5791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6324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7120" y="1219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10280" y="3352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6120" y="4800600"/>
            <a:ext cx="84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c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5181480"/>
            <a:ext cx="81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31000" y="5675400"/>
            <a:ext cx="6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6840" y="617220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72200" y="36180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37440" y="35812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63640" y="323676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 c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61480" y="262728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M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97880" y="10666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70120" y="91440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al0/USB(Sla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12560" y="2438280"/>
            <a:ext cx="106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al3/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4440" y="312408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232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3600" y="40384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al4/S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90520" y="243828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23680" y="304812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2160" y="342900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PIO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360" y="19368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rnada 720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286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040" y="213372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2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44956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29560" y="4379760"/>
            <a:ext cx="5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9080" y="4038480"/>
            <a:ext cx="9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al2/Ir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876560" y="32767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885840" y="1905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01:49:25Z</dcterms:created>
  <dc:creator>PC-COE</dc:creator>
  <dc:description/>
  <dc:language>en-US</dc:language>
  <cp:lastModifiedBy>kykim</cp:lastModifiedBy>
  <dcterms:modified xsi:type="dcterms:W3CDTF">2002-04-10T23:12:46Z</dcterms:modified>
  <cp:revision>9</cp:revision>
  <dc:subject/>
  <dc:title>PowerPoint Presentation</dc:title>
</cp:coreProperties>
</file>