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589E-6F02-4451-B958-6754E48C3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DF09-1C4D-4617-8C25-2298AF24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C568-D73C-41B8-8791-5B31A1BC0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3F25-EDA7-49BE-842B-197FCF46D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2B03-289B-49A1-B84E-CB24E9A33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EBCA-260E-43EB-AC1B-989C2829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FFBC-A72E-4DB2-B4BF-BDAB0659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BE05-BFE7-4A41-BB73-7F3DE114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510C-BAFB-4F94-A5D0-3F8CDF24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81072-FFEB-4139-BC52-F351EC36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E2E5-7021-4C05-894D-0EC3600D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E5EC-E6D0-4337-913B-E8432F78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4136-CCFC-4072-9CE4-AD8D8C00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77C8-5992-4D50-81C3-F01CABB9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01C5-59C1-4084-BC80-411DFA20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C1A6-03EF-463B-89E7-F1BAF6C6A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EF8A-06D6-400A-A0BD-55D9E999A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8572-1FFA-4A51-8583-646A1BA1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0B3F-57A4-4F3D-ABBD-8F44EB3D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ECD6-359E-4158-B33C-C55BA54C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040E-F2FD-41A8-81EC-A6328282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BDF5-CBB6-4374-B4C9-C778ED5B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A03C-8B1B-49B9-9B85-F2047581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4E9C-FA3F-47F9-8610-3FAA9D23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DB1A-8F59-47D5-AA1E-B76D6E2E42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AE63-EF89-4251-A99D-BF5E92454B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504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ow To Run a Successful 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Brainstorm Session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238880" y="4981680"/>
            <a:ext cx="17528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cuss the Objectives of the Exerc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big picture business goal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layers realize why they have been invi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the specific goals for the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Up a Relax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pen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meet at a fresh location that may be less stressfu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refreshments and music upon ent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iminate negative or stressful pers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a Positive and Focused T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 to get the team in the mind set of your intended customer by providing customer examples or case stud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humor and positive examples to encourage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the Guidelines for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resented ideas are NOT challenged or “put dow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up front that those who consistently make negative comments will be eje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ppropriate Tools Avail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truly rea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 white board or large tab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 a scrib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ccess to the internet and corporate intranet for quick re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sure you eliminate all interruptions or confli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Moderator -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to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someone the group will trust with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confident with subject matt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pose questions to get group back on track only when nee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features do you think our customers value the mo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dea Coll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a relay system to deliver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scribe write large enough so ideas can display and branch off of each 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e Energy Arou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se New Ide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team refine and then present the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ly post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llow through on best ideas to create energy across the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9:23:04Z</dcterms:created>
  <dc:creator/>
  <dc:description/>
  <dc:language>en-US</dc:language>
  <cp:lastModifiedBy>DataViz, Inc.</cp:lastModifiedBy>
  <dcterms:modified xsi:type="dcterms:W3CDTF">2002-07-02T23:15:54Z</dcterms:modified>
  <cp:revision>44</cp:revision>
  <dc:subject/>
  <dc:title>Successful Brainstorming</dc:title>
</cp:coreProperties>
</file>