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AEC9-7564-4AB6-895D-2762E78E3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DA35-D009-46F2-8510-11A7997ED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A48E-D611-4326-8008-FFF60ED5A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DE43-ACE6-4569-9D7A-DC830D0A7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D6112-8ECA-4433-9EFA-4CCC2C81D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262B5-F6CB-48B9-81B3-9283DE543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658C4-F2C5-450D-9C2B-A65FE68FD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A7489-23CF-4EF4-8861-DFAE51EC1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389EC-B401-4656-91E0-EEFDBABFE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9F2E4-73AA-48D9-91E9-249857F97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A9730-7C85-4E1A-86EC-959F47360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B74D-4E40-4EC8-B481-443531663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122F9-9AE7-4435-9510-D38AF3F9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2BAE5-3DAE-4E69-8D59-538C2DFD7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2D4DB-A7E2-43D7-8AD6-F115BDA92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9E977-D324-46CE-8F16-7B774AA34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7FA5E-3BC5-438A-B96D-9D3C82463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C612-DB82-4E93-9F0B-802146772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8DE5-48D3-4021-93A5-84CDFA493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4D40-2FFE-4DB3-905A-816143C8C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60FF-3876-43E5-8657-C9BCB6847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B108-ADF4-4705-8B61-85EA8CCF9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CA68-2A31-4C93-A16C-B25CB3749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7533-F401-49EA-BA46-69B585362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97A38-5D7B-4788-8F25-859AB228D83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C3E2E-35E1-4463-8EF3-DB10D8DBA3C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Geschäftsabschluss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6840" y="3765240"/>
            <a:ext cx="845820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er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infach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hritt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ür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s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kaufsgesprä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Vier Schritte zum Geschäftsabschluss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setz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ch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g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un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agen Sie direkt nach dem Geschäftsabschlu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enden Sie das Verkaufsgesprä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hließen Sie das Geschäft vertrauensvoll 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Versetzen Sie sich in die Lage des Kunden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o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egen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e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rteile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ür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c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es ist die wichtigste Frage, die sich der Kunde stell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1560" indent="-41868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ringen Sie den Grund für den Kauf in Erfahru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1560" indent="-41868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rinnern Sie den Kunden an den Grund seines Kauf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1560" indent="-41868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sprechen Sie nur, wie der Kunde von diesem Geschäftsabschluss profitier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Fragen Sie direkt nach dem Geschäftsabschluss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b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darf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hre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und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rkan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e haben eine Lösung vorgeschlagen, die sich am Bedarf des Kunden orientie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e haben sich das Recht erarbeitet, den Kunden jetzt zu fragen, ob Ihre vorgeschlagene Lösung gefällt und er zum Kauf bereit ist... also fragen Si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Beenden Sie das Verkaufsgespräch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hr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und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iß,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r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öcht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hr Kunde hat Sie darum gebeten, und Sie haben die Lösung geliefe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e länger sie sprechen, desto eher denkt der Kunde, Sie hätten noch keine Lösung unterbreit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rechen Sie an dieser Stelle vorerst nicht weiter, um dem Kunden die Gelegenheit zu geben, sich zu entscheid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Schließen Sie das Geschäft ab</a:t>
            </a:r>
            <a:r>
              <a:rPr b="0" lang="en-US" sz="38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schäftsabschlüs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asier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trau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nn der Kunde überzeugt ist, dass Sie Vertrauen in Ihre Lösung haben, dann wird er ebenfalls Vertrauen in Ihre Lösung hab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trauen entsteht durch Vorbereitu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Üben Sie Ihre endgültige Präsentation in einem Rollenspiel, und bereiten Sie Antworten auf mögliche Einwände vo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4:53Z</dcterms:modified>
  <cp:revision>24</cp:revision>
  <dc:subject/>
  <dc:title>Closing The Deal</dc:title>
</cp:coreProperties>
</file>