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755A-1303-4D62-ABC0-F2A14265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9877-2516-4ED1-9457-48B570C4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B466-01BB-4C57-9FAF-B2081119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C648-28F8-43D4-B4FE-78440073B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8612-088A-4EA9-A1A6-5C889499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3B43-FD59-47AC-9F8D-A68FFF24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2FCF-C873-4758-8C69-D06A487D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A2D0-B4CE-4A30-9E6C-B889E370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217B-E33D-41F0-992A-0FCC8F9B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42C4-7464-4A80-80E8-ECC4CAD2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55D5-4E3D-4FA5-888B-A81E6691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76C-FE6E-4B1C-A8DE-0783E7F4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670C-FF90-4B96-A800-CFC05BCB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F42B-A79E-43E3-93E6-49A49730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1BEA-F587-40C6-B27E-14E4CDD1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BAAF-17FD-4D49-A3A4-FF5D7554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66CB-CA76-4318-BE9C-70F105CA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16C1-B64C-4E8F-BA4F-32CF1384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B2A3-696A-4B94-A41B-D41FBF1E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6BB6-E4A0-4DF5-8FEE-E197F645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40B0-6732-44CA-BB11-95659ACF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BB27-94D6-4BC4-AD33-F171D96F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EFDB-FB88-4024-9925-69BB6B52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EC59-9CE0-42E5-8DF8-00705A13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1F23-BABD-4569-97D5-EA1B494B3C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4BDD-9B7D-417B-8E6B-AEE8384F27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onclusione di una transazione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ag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ord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qu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saggi per concludere un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re la trans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are le trat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ere la transazione conquistando la fiducia dei 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Individuare i vantag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i vantaggi costituiscono l'argomento preferito dai clienti e l'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desiderano ascol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rire le motivazioni dell'acqu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ttolineare tali motiv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si a illustrare i vantaggi offerti dall'eventuale conclusione di questa trans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rre la transazi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a consigliata una soluzione in grado di soddisfare tali esig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ora possibile proporre l'acquisto della soluzione consigl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Terminare le trattati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osc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r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o fornito ciò che i clienti hanno richi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secuzione delle trattative potrebbe convincere il cliente che la soluzione offerta è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rompere le trattative e consentire al cliente di prendere una deci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dere l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d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liente avrà fiducia nella soluzione se percepisce che il venditore è sicuro della soluzione of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e sicurezza deriva da un'adeguata pre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are la presentazione finale e preparare le risposte alle possibili obiez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21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