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EC26-2238-4EF9-A239-00AD74C75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AEF3-A8B1-4959-92C4-BEFFAF0BB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F4AC-8EB7-4AD0-97EC-0545747A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9CF3-6474-4E1E-AEC6-2E4FEA3425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8CB65-034E-41D6-B26F-3F870F4F2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BF61-6E9D-45E1-BC06-B2F50DE4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CE838-C89F-4C5B-8782-65748A71B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262F3-4D19-4770-B1B0-44AA36FE1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7146-0825-4A58-92F2-6EACAD29B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ECF2-7DAC-48E6-870C-F0B05EE29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30E76-414B-4B8E-984A-7EBE9EF95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2AA3-E099-4952-B488-A296CFA14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BB41D-AEE5-471D-B213-2B138DA7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AD83B-FDEB-4BD2-8A5E-3CA9C13A5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6FBAC-4706-4931-9C95-A9AF4A780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D9D8-4498-44E2-A419-8E664F5E7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A9FF0-13A6-4E04-9681-098A57959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957F-688C-44EB-8E59-C90003EF2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117D-A814-407A-9CCB-A25DECFB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CD46C-979A-4F80-9DBB-D0AA5B1D7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42D64-6AB8-4573-AED7-0511E118F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17135-DDFA-4435-82D8-BC2572232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0ECA-7B7A-4798-ADFE-587DEF0E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13CB-4C2B-472A-A3B5-6BC25D54F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C6E3C-34F6-4C34-B8CE-630F751CD4B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0BF1A-0173-466D-B13E-B2CFE8F76C3B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4" name="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09720" algn="ctr">
              <a:spcBef>
                <a:spcPts val="601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17640" algn="ctr">
              <a:spcBef>
                <a:spcPts val="4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Geschäftsabschluss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3765240"/>
            <a:ext cx="8458200" cy="10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i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infach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ritte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s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kaufsgesprä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Vier Schritte zum Geschäftsabschluss</a:t>
            </a:r>
            <a:r>
              <a:rPr b="0" lang="en-US" sz="44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setz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ch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ag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ragen Sie direkt nach dem Geschäftsabschlu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enden Sie das Verkaufsgespräch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hließen Sie das Geschäft vertrauensvoll 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1.  Versetzen Sie sich in die Lage des Kunden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o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liegen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orteile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ür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ic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ies ist die wichtigste Frage, die sich der Kunde stell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ringen Sie den Grund für den Kauf in Erfahr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innern Sie den Kunden an den Grund seines Kauf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71560" indent="-41868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sprechen Sie nur, wie der Kunde von diesem Geschäftsabschluss profitiert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2.  Fragen Sie direkt nach dem Geschäftsabschluss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hab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edarf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e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n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kan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eine Lösung vorgeschlagen, die sich am Bedarf des Kunden orienti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ie haben sich das Recht erarbeitet, den Kunden jetzt zu fragen, ob Ihre vorgeschlagene Lösung gefällt und er zum Kauf bereit ist... also fragen Si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3.  Beenden Sie das Verkaufsgespräch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07732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Kunde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iß,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s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er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öcht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hr Kunde hat Sie darum gebeten, und Sie haben die Lösung geliefer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e länger sie sprechen, desto eher denkt der Kunde, Sie hätten noch keine Lösung unterbreit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-45072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prechen Sie an dieser Stelle vorerst nicht weiter, um dem Kunden die Gelegenheit zu geben, sich zu entscheide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07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800" spc="-1" strike="noStrike">
                <a:solidFill>
                  <a:srgbClr val="420000"/>
                </a:solidFill>
                <a:latin typeface="Tahoma"/>
                <a:ea typeface="ＭＳ Ｐゴシック"/>
              </a:rPr>
              <a:t>4.  Schließen Sie das Geschäft ab</a:t>
            </a:r>
            <a:r>
              <a:rPr b="0" lang="en-US" sz="3800" spc="-1" strike="noStrike">
                <a:solidFill>
                  <a:srgbClr val="420000"/>
                </a:solidFill>
                <a:latin typeface="Times New Roman"/>
                <a:ea typeface="ＭＳ Ｐゴシック"/>
              </a:rPr>
              <a:t>	</a:t>
            </a:r>
            <a:endParaRPr b="0" lang="en-US" sz="38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10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eschäftsabschlüs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asiere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u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enn der Kunde überzeugt ist, dass Sie Vertrauen in Ihre Lösung haben, dann wird er ebenfalls Vertrauen in Ihre Lösung hab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Vertrauen entsteht durch Vorbereitung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98560" indent="-431640">
              <a:lnSpc>
                <a:spcPct val="100000"/>
              </a:lnSpc>
              <a:spcBef>
                <a:spcPts val="700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Üben Sie Ihre endgültige Präsentation in einem Rollenspiel, und bereiten Sie Antworten auf mögliche Einwände vor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7T03:11:24Z</dcterms:created>
  <dc:creator/>
  <dc:description/>
  <dc:language>en-US</dc:language>
  <cp:lastModifiedBy>Jennifer Tornay</cp:lastModifiedBy>
  <dcterms:modified xsi:type="dcterms:W3CDTF">2004-06-22T13:24:53Z</dcterms:modified>
  <cp:revision>24</cp:revision>
  <dc:subject/>
  <dc:title>Closing The Deal</dc:title>
</cp:coreProperties>
</file>