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4E32-F570-49C7-8B73-BFC2B5192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3B77B-EA30-4206-9F20-9D0878E1C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51F9-1A16-436C-ACA2-8379D6B99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6836-FE91-43EB-B694-67B53653D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4F684-9A79-470E-BF95-DF0595F315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7DCAE-041E-4F79-87E5-5CA93DF7A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6C5E4-057A-4209-87AA-F5DFF7202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9207F-8CCD-47EB-BC43-60B34602E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7A6BF-C5FF-4215-9DA1-6AF5C7493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2A80D-F3A6-4B13-956D-1FC11DFA8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E5A6B-9979-4971-893C-9ABEECD0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968E-B039-4162-B1E5-8B20B0B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7CE4-1889-4368-BEFC-693BBDBBA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18BAC-9A05-4CC2-8112-05551556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BB22B-7E16-4577-BE00-2431420F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BBC7D-6F54-4C9B-98EB-161CEEE14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E3F78-EC51-4126-966D-1C5E764214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B3088-C98A-4FED-9B72-4A4E85003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C4F2-CBF8-4E68-BF21-A33DF05E8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E64-6CD7-4C91-9786-03180205D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EC77-5157-4B9E-80E6-58A300934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E1592-0CB6-4665-98A9-41D7DA16C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172F-60D4-436D-BD05-6D3F83AA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1610-75C0-4B25-98BB-8481CE112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3BCCA-FE69-483E-BF37-AD1C373629E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50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1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4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C1175-C4FB-484D-88D5-D33C00DF72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925040" cy="26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How To Run a Successful </a:t>
            </a:r>
            <a:br>
              <a:rPr sz="5400"/>
            </a:br>
            <a:r>
              <a:rPr b="0" lang="en-US" sz="5400" spc="-1" strike="noStrike">
                <a:solidFill>
                  <a:srgbClr val="333399"/>
                </a:solidFill>
                <a:latin typeface="Tahoma"/>
              </a:rPr>
              <a:t>Brainstorm Session</a:t>
            </a:r>
            <a:endParaRPr b="0" lang="en-US" sz="5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238880" y="4981680"/>
            <a:ext cx="175284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scuss the Objectives of the Exercis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late big picture business goals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layers realize why they have been invi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the specific goals for the progr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Up a Relax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pen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to meet at a fresh location that may be less stressfu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refreshments and music upon ente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liminate negative or stressful persona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a Positive and Focused To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ork to get the team in the mind set of your intended customer by providing customer examples or case stud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humor and positive examples to encourage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 the Guidelines for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ke sure presented ideas are NOT challenged or “put down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ate up front that those who consistently make negative comments will be eje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ppropriate Tools Availab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truly read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 white board or large tabl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 a scrib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ve access to the internet and corporate intranet for quick re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sure you eliminate all interruptions or confli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Moderator -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Key to Succes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st be someone the group will trust with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be confident with subject matter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hould pose questions to get group back on track only when need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features do you think our customers value the most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dea Collec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 up a relay system to deliver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scribe write large enough so ideas can display and branch off of each o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reate Energy Arou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se New Idea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ve the team refine and then present the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blicly post final ide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llow through on best ideas to create energy across the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0T19:23:04Z</dcterms:created>
  <dc:creator/>
  <dc:description/>
  <dc:language>en-US</dc:language>
  <cp:lastModifiedBy>DataViz, Inc.</cp:lastModifiedBy>
  <dcterms:modified xsi:type="dcterms:W3CDTF">2002-07-02T23:15:54Z</dcterms:modified>
  <cp:revision>44</cp:revision>
  <dc:subject/>
  <dc:title>Successful Brainstorming</dc:title>
</cp:coreProperties>
</file>