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30B2-2F77-4742-A7BE-D29106E98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F054E-219F-4303-A42E-497EE54AD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8AA4E-CA3B-4A45-9808-68687E34C4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DD16-DEA6-4755-938D-EAB27414F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96465-86E3-44BE-9E8C-3D1B012D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55906-4D7F-4AB7-951D-155C40497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FB534-9087-4D68-96B6-BF7B3DF18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53536-75BF-4EBE-9619-FFF63FAF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0E9BF-535D-41B4-94E8-E86FD7EB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4FFC9-B6BB-4ED7-BEBF-80DD126DC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7158A-21DE-4633-BE89-63D32C24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6311A-9D79-46F8-91E9-80A1725A3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FE180-ABF7-43A0-A97B-7D0753147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4BAF6-89A2-4806-A0C5-F36808795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721CE-5D66-4635-BE0F-2462B02E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5AD-7C46-4D7D-A5B1-95914930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6B630-50F6-438C-9A15-2BF7EFE6B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8C1E-9C47-40ED-B081-08F1A9DE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7694-3C53-4934-8246-34B7BE820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AC905-0D2C-4CA1-B66F-97DD2EF17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140C0-4B7B-4F9B-8E08-BDA2F5EFC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4D3D-03E1-4DAB-A6FF-AB748E377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4521-B498-42D1-B905-05C3A14B7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E41D-2A8B-4833-A48A-E0DD43BA6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481-EAF9-41EB-84D1-E407F183154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ADD8D-F1CD-48D4-81D5-FF039DC197F5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Cerrar el trato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685440" y="3765240"/>
            <a:ext cx="80010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4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aso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ácil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ord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omen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 pasos para cerrar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ntoni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adi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xponga el tra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ven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ierre el trato con 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“Sintonice la radio en QHPM”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HPM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–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“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é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y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ra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í?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 la emisora favorita, y la </a:t>
            </a:r>
            <a:r>
              <a:rPr b="1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únic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, que su cliente escuc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pa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uérdeles por qué están compra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ábleles sólo acerca de cómo les va a ayudar este trat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Exponga el trato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dentifica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ecesidad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ha presentado una posible solución a sus neces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Ya se ha ganado el derecho a pedirles que compren la solución recomendada... ¡Pues pídasel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Deje de vender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u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lient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be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qu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e han pedido que se lo facilite, ¡y ya lo ha hecho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uanto más hable, más pensarán que no está satisfecho con la solución ofrec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je de hablar y permítales que decid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Cierre el trato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er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at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em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fianz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 los clientes creen que usted tiene confianza en su solución, ellos también la tendrá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 confianza es producto de la prepa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pare la presentación final y prepare respuestas para posibles objecion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5:45Z</dcterms:modified>
  <cp:revision>24</cp:revision>
  <dc:subject/>
  <dc:title>Closing The De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858052149</vt:r8>
  </property>
  <property fmtid="{D5CDD505-2E9C-101B-9397-08002B2CF9AE}" pid="3" name="_AuthorEmailDisplayName">
    <vt:lpwstr>Kathleen McAneany</vt:lpwstr>
  </property>
  <property fmtid="{D5CDD505-2E9C-101B-9397-08002B2CF9AE}" pid="4" name="_EmailSubject">
    <vt:lpwstr>Files</vt:lpwstr>
  </property>
  <property fmtid="{D5CDD505-2E9C-101B-9397-08002B2CF9AE}" pid="5" name="_ReviewingToolsShownOnce">
    <vt:lpwstr/>
  </property>
</Properties>
</file>