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4201-2C3A-4386-B87E-94D1E7DB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8C88-6CE1-4715-B890-50AE018F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FF93-E248-414F-8B0C-FBADB93526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D22A3-D6DE-42AB-B4BF-97571A711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D4A82-2115-4AC4-8662-40C897603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90CEF-CEC6-49D7-865B-0D670C574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6DFAF-F33D-48E6-87E6-6CCC9EDB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09F19-7471-4394-A4F2-DFFBB0F4F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97852-BD38-4869-BA08-85A415133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6FA74-E3F7-4106-B4C5-128253876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1DD1B-1929-4ADE-A5CD-F018D785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C6AF-7CA5-4C99-8A15-3E6F8E649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D71C5-C4E7-46B0-85DF-861EE20C8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EF1C7-EA29-48EF-9C2F-CF7F23E71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74D76-C88A-44BE-9527-3338FD3A9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4F42B-00EE-4FD8-80F2-9850906AB5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0CDF9-8208-47C3-80C0-AD3B0F0406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B89D-AE32-4E43-88DC-2ED51D01D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F466-1E58-42EF-9B86-4B5E04D84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8C130-2EEE-480A-AB2D-EB77B089C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2CBBD-32B7-480B-962E-0F632C0DE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1E5B1-0CC9-4B2C-945F-51F1E55F8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A0C9-FEDB-425C-9E81-1F324E787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587AF-C2B4-4B24-BEBB-D1AACFC24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DB368-A8BA-418C-B929-5F83F2C66E11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76258-8002-4F3C-A966-22D4545BA4B3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2057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Signer un contr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761760" y="3765600"/>
            <a:ext cx="7467480" cy="73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a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seil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ci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ppeler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r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4560" y="914400"/>
            <a:ext cx="83818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Quatre conseils pour signer un contrat</a:t>
            </a:r>
            <a:r>
              <a:rPr b="0" lang="fr-FR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 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ptez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u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posez le contr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rêtez d'argumen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cluez le contrat en toute 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« Optez pour WIFM »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IFM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t’s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t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or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?”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(«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est-c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la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'apporte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?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»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'est le discours préféré de votre client, le </a:t>
            </a:r>
            <a:r>
              <a:rPr b="1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u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qui l'intéres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connaître ses besoi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devez les lui rappel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rlez-lui uniquement des avantages que le contrat va lui offrir 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Proposez le contr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vez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é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oins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lui avez présenté à titre consultatif une solution adapté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us avez le droit de lui demander d'acheter votre solution … Alors faites-le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Arrêtez d'argument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tr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i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'il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u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l vous a demandé de fournir la solution qui lui convient et vous l'avez fait 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lus vous parlez, plus il pense que vous n'êtes pas capable de lui fournir cette solu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ssez de parler et laissez-le prendre sa déc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oncluez le contrat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ou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t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stion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votre client sent que vous avez confiance en votre solution, lui aussi lui fera confi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ce repose sur une préparation minutie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À la fin de votre présentation finale, préparez-vous à réfuter toutes les objection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26Z</dcterms:modified>
  <cp:revision>24</cp:revision>
  <dc:subject/>
  <dc:title>Closing The Deal</dc:title>
</cp:coreProperties>
</file>