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C3EA-9973-4194-80DA-F752BD08E4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3B2A-5450-4932-86A9-29E853F90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872E-2B62-45A2-B84A-C4D4D94F2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98AC-FACB-40CC-BBAD-2B4421651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09920-BDF3-40D8-9176-8524FDBD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B1E64-30D1-4B18-AA87-D079C900A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8D27C-A38D-479B-B9B4-17F0D53D9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07B0A-54C0-44E1-9AE7-655CBC7F7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ACC81-EB1A-4E75-8DBD-D7B891B69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8032B-CCFE-43BC-9114-9B50CE902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08B52-017B-4B00-BFBC-6A9D3C4A0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07A-FE7F-4D6D-9078-C1FF7272F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4BA21-3817-4C19-B8D6-BA09C9A78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E723-BA8C-49F3-BD64-A99B0142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CCF059-F4A2-48E5-92A1-BE978D0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EDA6A-09A5-4126-BB1B-F1073D257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6F75C-6CF9-4B95-B23D-6DC7DE3FE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887D-A7CF-4EAE-A8C5-1B1D6594E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CC5C-9E4B-4FE6-B2D5-99CBE4B98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5C1-246C-4755-A920-631C6DA58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8801-8BFF-4ECB-B390-38117593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DA57C-03EE-4A64-9063-C5CBE578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FFEB-108E-41FE-ADDA-2DA906C10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BE91-03EA-468C-93BF-0FBD2B1D6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1DF97-4D80-4542-9835-C67A5BD52FE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2B76B-9829-4795-934F-EC8325EACFDD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onclusione di una transazione</a:t>
            </a:r>
            <a:endParaRPr b="0" lang="en-US" sz="4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sagg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icordar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s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quis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saggi per concludere un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rre la trans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rminare le tratta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dere la transazione conquistando la fiducia dei 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Individuare i vantaggi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dividuar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antaggi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er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41360" indent="-4413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i vantaggi costituiscono l'argomento preferito dai clienti e l'</a:t>
            </a:r>
            <a:r>
              <a:rPr b="1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ic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che desiderano ascolt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oprire le motivazioni dell'acqui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ttolineare tali motiv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53200" indent="-4100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mitarsi a illustrare i vantaggi offerti dall'eventuale conclusione di questa trans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rre la transazion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t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a consigliata una soluzione in grado di soddisfare tali esigen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ora possibile proporre l'acquisto della soluzione consigli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Terminare le trattativ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i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oscono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ri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igenz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 stato fornito ciò che i clienti hanno richi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prosecuzione delle trattative potrebbe convincere il cliente che la soluzione offerta è incompl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terrompere le trattative e consentire al cliente di prendere una decis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dere la transazione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sione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è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terminat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lla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iduc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cliente avrà fiducia nella soluzione se percepisce che il venditore è sicuro della soluzione of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ale sicurezza deriva da un'adeguata prepar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vare la presentazione finale e preparare le risposte alle possibili obiezion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21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