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F3991-9B03-462C-B220-6D5B6AADB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2A1F-FDAD-4E44-A03A-0F57D3ABB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3AF9-50C3-4B39-A5BF-65A463992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F1821-BF02-4C97-A15E-E8D0C0042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28FD8-4E91-4B33-AA19-F456C37E1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AD69D-FD10-49C7-8D27-100571E52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A5C6F-12BA-46E1-BB41-A6405B749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87866-356E-4DA7-AC37-E6C4A7D3D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FF50A-00F9-4F35-B4B5-5AA9A326F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90B6B-4725-4126-8137-79292A7DC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2A562-CDB4-4D60-ADC8-E5D5C548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57B22-A970-46D0-AD0F-224AAF275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DE301-1C7A-4D66-8488-53A51E4A6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56861-D07D-49F7-84D4-115A46F2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3877B-44E7-4B7E-A262-3505A6E36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74F78-DAAB-4434-BEF1-0BB4EF49D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12C61-3424-455C-8906-ECEE8031B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F0D96-DC07-4757-BD31-1C2C33B6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836C0-2FEF-4E08-9E7F-40DB35693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CB92-093D-4779-BC2D-FBE9FB4D5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A5AC-E4CE-4769-A231-967279CF1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FA066-4119-467E-B328-BB382120D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4A45-6B86-4DC3-B162-C1030BDD4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AAAC-1C20-41A3-BB2E-FB5C9E789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DD55-1DE4-4269-807C-8D9F3C3A669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DF177-1A90-46FE-A2D7-683CBEEFE71A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Fechando o negócio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33520" y="3657240"/>
            <a:ext cx="807696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tr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tap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ácei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v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mbrad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oci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686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Quatro etapas para fechar um negócio</a:t>
            </a:r>
            <a:r>
              <a:rPr b="0" lang="en-US" sz="38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ocar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ã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nh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licitar o negóc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ar a ven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char o negócio com confianç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“Focar a questão O que ganho com isso”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nho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sso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sa é a pergunta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vorita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de seus cl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ba por que eles estão compra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mbre-os por que estão compran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le com eles o essencial: como este negócio irá ajudá-los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Solicitar o negócio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ou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cessidad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 apresentou uma solução de consultoria para suas necess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cê ganhou o direito de solicitar que eles comprem sua solução recomendada... Então, solicit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Parar a venda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u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be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rem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es solicitaram que você os atendesse e você os atendeu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nto mais você fala, mais eles acham que você ainda não concluiu o fornecimento da soluçã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e de falar e deixe-os decidi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Fechar o negóci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echament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m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góci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á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lacionado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ç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 o cliente perceber que você confia em sua solução, eles confiarão ne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confiança vem com a prepara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saie sua apresentação final e prepare respostas às objeções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3:58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