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E4A9E-840C-4B04-AD81-9158AA01E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C65D0-DEDC-4484-A352-60EDF0622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BA305-CA37-499D-B2E5-F6C415C04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58E66-67B9-43DC-98B5-E30D34884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B414C-AD17-4737-83CE-1080A2194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249F6-6E31-4DC6-B021-970EAE625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4A330-4E8F-4695-BBC2-B88C3517F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C69BD-006F-4324-B42F-C4B04785D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24682-F05B-495B-9FA8-468AAC9F7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E01899-DB4C-4CE7-B38C-8AD9571F6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0C0FE-3343-4C97-AC6C-38966C486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F0C26-F5E8-4167-A96F-36D18D0C8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D4676-2353-4C6A-BFA7-84DC75C46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5D72A-FAE3-49AA-9189-A9F697D62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4FC3F-4789-42E3-8B7C-700C6369F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29710-120B-4C64-AC62-339B38A86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0669E-FAAF-4AC5-9D6B-805C9C0F53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19737-D86F-4C5D-B087-4F58E8D4C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D742B-6AB3-405E-9A9C-E61C42F70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D8F37-0268-4363-AC92-6C031D1E8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9F641-B710-4008-9811-0F1ADBB31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A4897-C968-4FDE-91AA-5D2A7C41F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D93F0-6F6E-4BDC-B4EC-3BD35C0E2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63B3D-3EDB-4634-AE1B-B1871118C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EE9F9-72F8-4B41-93E0-C3D2749AC61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50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1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4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12D54-B4B9-4817-94CF-C27F33C33C1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925040" cy="26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99"/>
                </a:solidFill>
                <a:latin typeface="Tahoma"/>
              </a:rPr>
              <a:t>How To Run a Successful </a:t>
            </a:r>
            <a:br>
              <a:rPr sz="5400"/>
            </a:br>
            <a:r>
              <a:rPr b="0" lang="en-US" sz="5400" spc="-1" strike="noStrike">
                <a:solidFill>
                  <a:srgbClr val="333399"/>
                </a:solidFill>
                <a:latin typeface="Tahoma"/>
              </a:rPr>
              <a:t>Brainstorm Session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7238880" y="4981680"/>
            <a:ext cx="1752840" cy="17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scuss the Objectives of the Exercis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late big picture business goal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ke sure players realize why they have been invi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 up the specific goals for the progr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 Up a Relax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pen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to meet at a fresh location that may be less stressfu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refreshments and music upon ente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liminate negative or stressful persona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 a Positive and Focused To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ork to get the team in the mind set of your intended customer by providing customer examples or case stud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humor and positive examples to encourage ide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 the Guidelines for Succes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ke sure presented ideas are NOT challenged or “put down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te up front that those who consistently make negative comments will be eje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ppropriate Tools Availab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truly read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ve a white board or large tabl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ign a scrib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ve access to the internet and corporate intranet for quick re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 sure you eliminate all interruptions or confli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Moderator -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Key to Succes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st be someone the group will trust with ide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hould be confident with subject matter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hould pose questions to get group back on track only when need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features do you think our customers value the most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dea Collec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 up a relay system to deliver ide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ve the scribe write large enough so ideas can display and branch off of each o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reate Energy Arou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se New Idea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ve the team refine and then present the final ide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blicly post final ide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llow through on best ideas to create energy across the organ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0T19:23:04Z</dcterms:created>
  <dc:creator/>
  <dc:description/>
  <dc:language>en-US</dc:language>
  <cp:lastModifiedBy>DataViz, Inc.</cp:lastModifiedBy>
  <dcterms:modified xsi:type="dcterms:W3CDTF">2002-07-02T23:15:54Z</dcterms:modified>
  <cp:revision>44</cp:revision>
  <dc:subject/>
  <dc:title>Successful Brainstorming</dc:title>
</cp:coreProperties>
</file>