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3EA92-B1CF-4518-AD49-482C412F3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5F46C-2C52-4AF3-8F5D-D9B33EE1A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1B08-39FB-44C5-B78D-0516A6114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DE48-94F1-4E7C-9DF6-B2603AC91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E919E-74D2-474E-996F-9959926BC3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CFB8F-404C-4E96-9E6D-96E1A4921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CE5772-69AC-404E-B098-EFF8F80C0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AE8A7-9340-4960-920C-AE5DE613C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733B-8362-4301-B2A6-AC03DF0DF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51BA5-3002-4A59-9344-C370574F1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F91E4-7EEB-45DE-AA3B-71401AE1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7F1F-0786-45CC-8F55-D86B61107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EDCBF-2DD2-4695-A2C9-2EA3A123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3BDA2-D699-4ABB-8987-D53FFCA85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CB9A4-D161-494F-9645-C490DE4B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27AD-5E68-4C81-933B-CE4192E4F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D4A0E-4A66-4A75-BFEB-B0A680CE6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C3588-2EAE-428A-9FA4-7E8F87F60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9E91A-067A-4E71-B30C-D68A2B47A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58F7-9271-4941-860D-C9F6397E1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39A1-6CAE-45EE-8B43-35EE313EE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1197-A308-46B0-B7B4-0524D93B4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BDFF-58B0-4F7B-9595-72B4F988E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7D669-352D-4B20-AE12-9CF8B4750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93AA-4F70-4220-AAB8-5C7D3E1B81C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46994-8D96-4D84-8047-C4761B2440B8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onclusione di una transazione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ag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ord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qu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saggi per concludere un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re la trans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are le trat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ere la transazione conquistando la fiducia dei 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Individuare i vantag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i vantaggi costituiscono l'argomento preferito dai clienti e l'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desiderano ascol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rire le motivazioni dell'acqu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ttolineare tali motiv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si a illustrare i vantaggi offerti dall'eventuale conclusione di questa trans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rre la transazi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a consigliata una soluzione in grado di soddisfare tali esig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ora possibile proporre l'acquisto della soluzione consigl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Terminare le trattati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osc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r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o fornito ciò che i clienti hanno richi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secuzione delle trattative potrebbe convincere il cliente che la soluzione offerta è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rompere le trattative e consentire al cliente di prendere una deci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dere l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d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liente avrà fiducia nella soluzione se percepisce che il venditore è sicuro della soluzione of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e sicurezza deriva da un'adeguata pre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are la presentazione finale e preparare le risposte alle possibili obiez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21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