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A171-28D0-404C-9AED-D655BD59B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7871-8D99-4380-88AA-3891CAB3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05DA-1F72-406A-B2E0-64E5804A8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344C-49FA-4A15-B0AD-A3A7C0682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CCAC-BDBB-452E-B725-258DB8526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EA9B6-841E-4442-B2FB-7950F49C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4ED02-75B9-4077-B281-91DD592A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7304-D400-4DF4-AABB-94EC3CE0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9225-0462-4670-A14F-7578623D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486B6-40D8-41B4-811E-1B4EBA3F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93E21-9FBA-4C8A-BF39-5D66B148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828D-241F-4F83-AD1A-37D53A8D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2B4B-7E4B-400E-8415-C89F319D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3204-620C-4142-BF0F-978AF282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BE89-0760-4A7D-8D66-8E34EBD4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F4D0-B727-44EB-A1B1-55DAD71C3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51DEC-4468-4908-B64C-144C3DFDD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0D61-13F0-4669-8288-8390218A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EB87-5649-40F4-81DB-7C233FCD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0814-C176-4E34-8D84-92BAF937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7778-C25F-4DDA-9E65-736B3FF8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7FD9-C84D-43E2-9FF3-524C528D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36DE-549F-4E2F-B3D1-90A4EEFB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1794-FD17-4413-A7CB-F8A9964D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711E-9A7C-4875-9CD3-6B3B31E4DE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574A-5575-427B-B74B-F6B80E2B72B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Cerrar el trato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440" y="3765240"/>
            <a:ext cx="80010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áci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ord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 pasos para cerrar el trat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ton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H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onga el tr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 de v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erre el trato con conf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“Sintonice la radio en QHPM”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HPM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é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y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 la emisora favorita, y la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nic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que su cliente escuc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pa por qué están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uérdeles por qué están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ábleles sólo acerca de cómo les va a ayudar este tr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Exponga el trato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cesidad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 ha presentado una posible solución a sus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 se ha ganado el derecho a pedirles que compren la solución recomendada... ¡Pues pídasel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Deje de vend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be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i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 han pedido que se lo facilite, ¡y ya lo ha hech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anto más hable, más pensarán que no está satisfecho con la solución ofrec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 de hablar y permítales que decid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ierre el trat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rr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m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los clientes creen que usted tiene confianza en su solución, ellos también la tendr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nfianza es producto de la prepa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e la presentación final y prepare respuestas para posibles objecio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5:45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