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807A6-6DF8-438B-A3F4-39EDCD634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E4D4E-1F21-4504-949D-F6F9D932E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4BB87-7D47-48A7-BC80-B47DC9498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71061-7EDD-4DA8-A732-67B3B2526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B1681-4813-4686-A87D-F3E51752C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DB884-DF06-4174-92FD-E975754A1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5302F-B80D-49E4-9E5F-80294A9D6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FE2B3-5356-4F1B-B1BF-BC679A8E9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E2A47-B500-4090-B597-18BCFF3F7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C1110-3CF0-44F2-8D31-A98215BB0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515FA-D8D1-4E4C-843B-DD8E40358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7035B-C13C-437A-A357-F840B7304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DB61A-C9AC-42ED-BFA4-247A18870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21E4C-E9C1-44CC-ACFB-0D1FCE737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E2A82-B1CE-4BDA-9521-C7D08E2C4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824F8-65F4-420E-AACF-7FAD0B016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299F7-156A-4778-BA36-4A67870C8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6A8B9-B8CB-4415-93FF-D2414A85D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907FC-1A39-419A-A95E-8C90178C1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ABC14-DBAC-4E5F-A651-05C7303FF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6804F-FD0C-4139-9D84-926198C4C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9D88C-5C74-4C4E-9A5C-398997FE2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D5601-74C6-46AA-B65D-F13EAE4BF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F4D52-BB2B-4000-B46E-0A138A83F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9E053-F113-4502-8100-A3D2E221779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FEBF7-411A-48D9-84EB-86EEEE721A60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54" name="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09720" algn="ctr">
              <a:spcBef>
                <a:spcPts val="601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17640" algn="ctr"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Conclusione di una transazione</a:t>
            </a:r>
            <a:endParaRPr b="0" lang="en-US" sz="4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762120" y="3765240"/>
            <a:ext cx="769608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4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acili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assaggi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icordare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ase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quis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4 passaggi per concludere una transazione</a:t>
            </a:r>
            <a:r>
              <a:rPr b="0" lang="en-US" sz="4400" spc="-1" strike="noStrike">
                <a:solidFill>
                  <a:srgbClr val="420000"/>
                </a:solidFill>
                <a:latin typeface="Times New Roman"/>
                <a:ea typeface="ＭＳ Ｐゴシック"/>
              </a:rPr>
              <a:t> 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dividua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antagg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porre la transazi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erminare le tratta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cludere la transazione conquistando la fiducia dei clien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1.  Individuare i vantaggi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441360" indent="-44136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dividuare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antaggi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er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l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iente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41360" indent="-44136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li vantaggi costituiscono l'argomento preferito dai clienti e l'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nico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che desiderano ascolt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53200" indent="-41004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coprire le motivazioni dell'acquis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53200" indent="-41004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ttolineare tali motivazion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53200" indent="-41004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imitarsi a illustrare i vantaggi offerti dall'eventuale conclusione di questa transazi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2.  Proporre la transazione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no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ate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dentificate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e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sigenze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i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ien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È stata consigliata una soluzione in grado di soddisfare tali esigen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È ora possibile proporre l'acquisto della soluzione consigli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3.  Terminare le trattative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807732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ienti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oscono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e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prie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sigenz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È stato fornito ciò che i clienti hanno richies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 prosecuzione delle trattative potrebbe convincere il cliente che la soluzione offerta è incomple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terrompere le trattative e consentire al cliente di prendere una decisi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4.  Concludere la transazione</a:t>
            </a:r>
            <a:r>
              <a:rPr b="0" lang="en-US" sz="4400" spc="-1" strike="noStrike">
                <a:solidFill>
                  <a:srgbClr val="420000"/>
                </a:solidFill>
                <a:latin typeface="Times New Roman"/>
                <a:ea typeface="ＭＳ Ｐゴシック"/>
              </a:rPr>
              <a:t>	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clusione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è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terminata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lla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iduc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l cliente avrà fiducia nella soluzione se percepisce che il venditore è sicuro della soluzione offer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le sicurezza deriva da un'adeguata preparazi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vare la presentazione finale e preparare le risposte alle possibili obiezion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7T03:11:24Z</dcterms:created>
  <dc:creator/>
  <dc:description/>
  <dc:language>en-US</dc:language>
  <cp:lastModifiedBy>Jennifer Tornay</cp:lastModifiedBy>
  <dcterms:modified xsi:type="dcterms:W3CDTF">2004-06-22T13:25:21Z</dcterms:modified>
  <cp:revision>24</cp:revision>
  <dc:subject/>
  <dc:title>Closing The Dea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858052149</vt:r8>
  </property>
  <property fmtid="{D5CDD505-2E9C-101B-9397-08002B2CF9AE}" pid="3" name="_AuthorEmailDisplayName">
    <vt:lpwstr>Kathleen McAneany</vt:lpwstr>
  </property>
  <property fmtid="{D5CDD505-2E9C-101B-9397-08002B2CF9AE}" pid="4" name="_EmailSubject">
    <vt:lpwstr>Files</vt:lpwstr>
  </property>
  <property fmtid="{D5CDD505-2E9C-101B-9397-08002B2CF9AE}" pid="5" name="_ReviewingToolsShownOnce">
    <vt:lpwstr/>
  </property>
</Properties>
</file>